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916E1-6AD6-4F43-83CE-E404E70EE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90D8D-9FA1-4CC2-BACA-EE82D4741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A3162-F31D-40D8-8ABD-DCDCB7D13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EA76C-3C54-40E0-8F49-E6F99238F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3F0F1-D486-4774-AAC7-9ACA02466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23374-D857-48F0-8B94-336DD3C7B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4887B-3636-4734-883F-F80190C6F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D9681-5C89-400A-8E60-9ADA3E40F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E4643-E98F-42E3-A41E-B255E660F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383FA-B8A6-4BAB-B8FF-C1E4EBCDB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BEBED-1A6F-4160-8B11-9AFAE632B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D4A69-BCBC-4770-B01E-88F799B65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7E117-E65E-4CBC-A325-89D1A53304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38080" y="2514600"/>
            <a:ext cx="762012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762120"/>
            <a:ext cx="7620120" cy="18288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066680" y="838080"/>
            <a:ext cx="716292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Playbill"/>
              </a:rPr>
              <a:t>WinOdEan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Playbill"/>
              <a:ea typeface="Playbill"/>
            </a:endParaRPr>
          </a:p>
        </p:txBody>
      </p:sp>
      <p:sp>
        <p:nvSpPr>
          <p:cNvPr id="46" name=""/>
          <p:cNvSpPr/>
          <p:nvPr/>
        </p:nvSpPr>
        <p:spPr>
          <a:xfrm>
            <a:off x="990720" y="259092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Windo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90720" y="3124080"/>
            <a:ext cx="739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 Extra Bold"/>
              </a:rPr>
              <a:t>Optimiz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90720" y="373392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Data En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38080" y="4343400"/>
            <a:ext cx="7620120" cy="182880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4724280"/>
            <a:ext cx="7543800" cy="9234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etter Gothic"/>
              </a:rPr>
              <a:t>Affinity 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e-mail: affinity@vsnl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24T08:44:49Z</dcterms:created>
  <dc:creator>OPEY A.</dc:creator>
  <dc:description/>
  <dc:language>en-US</dc:language>
  <cp:lastModifiedBy>OPEY A.</cp:lastModifiedBy>
  <dcterms:modified xsi:type="dcterms:W3CDTF">1999-12-27T13:44:17Z</dcterms:modified>
  <cp:revision>12</cp:revision>
  <dc:subject/>
  <dc:title>No Slide Title</dc:title>
</cp:coreProperties>
</file>