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E25E2-EEE0-4AA4-9DAC-B67619908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681A8-3C84-4B24-A575-50F2DECBF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93508-631B-4EC5-A072-55F11D21C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5BA1C-1684-4285-B68C-08345F0C9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89F7E-6CF0-47C4-8AF9-D2BF4B943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D2FDB-AE4B-4B7C-9702-D47C44E9F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27C9B-1565-48E3-A7B1-A9E1336EF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BDEA1-A2EF-4010-8ADE-554E01B40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2D240-7180-446E-9B7B-EEF27E608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2F96C-6475-4CC6-8521-F3B900E5E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E9D9E-4FF8-4DBA-BC8F-CDE9306BD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E772E-0686-406C-AFAA-4F04C3821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18D12-9358-48FE-A659-32517D745C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1998-12-04T22:13:23Z</dcterms:modified>
  <cp:revision>0</cp:revision>
  <dc:subject/>
  <dc:title>PowerPoint Presentation</dc:title>
</cp:coreProperties>
</file>