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40F6-99CA-4FCF-B76F-D9068C6AF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02DB-7983-4E72-9B06-4972C85EC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7490B-2F9F-4503-9131-D9C95D163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49B60-113C-4A9B-838E-AA22455C36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FE79-A04B-45D5-94C8-F950A8779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D31B-2178-469D-A85A-A8F4ED89D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AB5D3-8D0B-4430-98A3-08D0662F7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79F3-0304-4961-B043-541B5F5E9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F7FB-2523-4862-A1B5-ADBA4A2CD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9D8EF-5C19-4636-9EFB-0CFAA2A27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6BA2B-ABBC-4C4A-8782-3222908EF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39768-B945-49D0-A9EE-4464450D6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BB73-904C-48FA-834B-7666209236A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General Discussion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ssion will be a general discussion on HIPAA and how you are implementing your HIPAA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special case, lets talk about it and help you find an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for others affected by HIPAA, just as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3T22:24:15Z</dcterms:modified>
  <cp:revision>856</cp:revision>
  <dc:subject/>
  <dc:title>IBM Software Group</dc:title>
</cp:coreProperties>
</file>