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png" ContentType="image/png"/>
  <Override PartName="/ppt/media/image10.wmf" ContentType="image/x-wmf"/>
  <Override PartName="/ppt/media/image12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13D61-51C0-446F-B187-F134C6CD2C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4B62B-E373-45CA-AD11-346A2AE623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690C5-ACE6-4564-BA9A-6AF63809B4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929D6-5249-4942-8C58-33059FD220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31AD2-F518-4900-B539-2A3684686D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C7DB8-26A9-4A26-B7EA-A4ED986A48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8F0D7-3E19-4CBF-9F60-13B784AD05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AA5FC-AA8F-4E01-8D71-24FF415541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FC475-0570-4831-8F62-CBCD1D0691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4C13E-92FF-49ED-89EB-EB810256B1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B445B-47A9-4E0A-AFB2-61194B1529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8ACE3-1019-45D1-B6CD-269C39C2F8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B89D-A220-4CCB-B5F4-8B5D1136E40D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Integration Competency Cen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276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EDI Develop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2240" y="1892160"/>
            <a:ext cx="55879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s from the Flight Deck</a:t>
            </a:r>
            <a:br>
              <a:rPr sz="1600"/>
            </a:b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huck Fer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644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Mojo Communic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46640" y="2419200"/>
            <a:ext cx="1009800" cy="1285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7460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Ollie Ollie O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40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Monte Pythons Flying Transac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276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E-Data Movers and Shak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Global Data Exchan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Data Exchange Sol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CSV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576440" y="1379520"/>
            <a:ext cx="595800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XML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858960" y="1219320"/>
            <a:ext cx="3597120" cy="36687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840200" y="1579680"/>
            <a:ext cx="3598920" cy="32526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875160" y="4862520"/>
            <a:ext cx="309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Compres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Expensive start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Readable with trai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62880" y="4862520"/>
            <a:ext cx="3333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Expanded data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Less expensive start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Flex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Read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at to keep an eye 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1276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Security/Encry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Commun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Frame R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Trans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49680" y="3121200"/>
            <a:ext cx="261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Question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Burlington Northern Santa Fe Railway Company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es one of the largest railroad networks in North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,000 Route M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ing 28 States and two Canadian Provi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covers the western two thirds of the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s more Intermodal equipment then any other Railroad 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's largest grain-hauling railro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uls enough coal to generate more than 10 percent of the electricity produced in the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s approximately 38,000 peop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 approximately a million transactions every d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WebServic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32280" y="1123920"/>
            <a:ext cx="1087200" cy="711360"/>
          </a:xfrm>
          <a:prstGeom prst="flowChartMagneticDisk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og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44600" y="256392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2560" y="2563920"/>
            <a:ext cx="10875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27720" y="257796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75320" y="256392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7" idx="3"/>
            <a:endCxn id="148" idx="1"/>
          </p:cNvCxnSpPr>
          <p:nvPr/>
        </p:nvCxnSpPr>
        <p:spPr>
          <a:xfrm>
            <a:off x="2453760" y="2918880"/>
            <a:ext cx="5464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52" name=""/>
          <p:cNvCxnSpPr>
            <a:stCxn id="147" idx="3"/>
            <a:endCxn id="148" idx="1"/>
          </p:cNvCxnSpPr>
          <p:nvPr/>
        </p:nvCxnSpPr>
        <p:spPr>
          <a:xfrm>
            <a:off x="2453760" y="2918880"/>
            <a:ext cx="5464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3" name=""/>
          <p:cNvCxnSpPr>
            <a:stCxn id="148" idx="3"/>
            <a:endCxn id="150" idx="1"/>
          </p:cNvCxnSpPr>
          <p:nvPr/>
        </p:nvCxnSpPr>
        <p:spPr>
          <a:xfrm>
            <a:off x="4132440" y="2918880"/>
            <a:ext cx="5212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4" name=""/>
          <p:cNvCxnSpPr>
            <a:stCxn id="150" idx="3"/>
            <a:endCxn id="149" idx="1"/>
          </p:cNvCxnSpPr>
          <p:nvPr/>
        </p:nvCxnSpPr>
        <p:spPr>
          <a:xfrm>
            <a:off x="5784840" y="2918880"/>
            <a:ext cx="519840" cy="900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5" name=""/>
          <p:cNvCxnSpPr>
            <a:stCxn id="146" idx="3"/>
            <a:endCxn id="148" idx="0"/>
          </p:cNvCxnSpPr>
          <p:nvPr/>
        </p:nvCxnSpPr>
        <p:spPr>
          <a:xfrm flipH="1">
            <a:off x="3564720" y="1856880"/>
            <a:ext cx="10440" cy="685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56" name=""/>
          <p:cNvSpPr/>
          <p:nvPr/>
        </p:nvSpPr>
        <p:spPr>
          <a:xfrm>
            <a:off x="3032280" y="3697200"/>
            <a:ext cx="1087200" cy="711360"/>
          </a:xfrm>
          <a:prstGeom prst="flowChartMagneticDisk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og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4460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e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22560" y="5137200"/>
            <a:ext cx="10875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6588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7532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7" idx="3"/>
            <a:endCxn id="158" idx="1"/>
          </p:cNvCxnSpPr>
          <p:nvPr/>
        </p:nvCxnSpPr>
        <p:spPr>
          <a:xfrm>
            <a:off x="2453760" y="5492520"/>
            <a:ext cx="5464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2" name=""/>
          <p:cNvCxnSpPr>
            <a:stCxn id="157" idx="3"/>
            <a:endCxn id="158" idx="1"/>
          </p:cNvCxnSpPr>
          <p:nvPr/>
        </p:nvCxnSpPr>
        <p:spPr>
          <a:xfrm>
            <a:off x="2453760" y="5492520"/>
            <a:ext cx="5464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3" name=""/>
          <p:cNvCxnSpPr>
            <a:stCxn id="158" idx="3"/>
            <a:endCxn id="160" idx="1"/>
          </p:cNvCxnSpPr>
          <p:nvPr/>
        </p:nvCxnSpPr>
        <p:spPr>
          <a:xfrm>
            <a:off x="4132440" y="5492520"/>
            <a:ext cx="5212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4" name=""/>
          <p:cNvCxnSpPr>
            <a:stCxn id="160" idx="3"/>
            <a:endCxn id="159" idx="1"/>
          </p:cNvCxnSpPr>
          <p:nvPr/>
        </p:nvCxnSpPr>
        <p:spPr>
          <a:xfrm>
            <a:off x="5780160" y="5492520"/>
            <a:ext cx="56736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5" name=""/>
          <p:cNvCxnSpPr>
            <a:stCxn id="156" idx="3"/>
            <a:endCxn id="158" idx="0"/>
          </p:cNvCxnSpPr>
          <p:nvPr/>
        </p:nvCxnSpPr>
        <p:spPr>
          <a:xfrm flipH="1">
            <a:off x="3564720" y="4430880"/>
            <a:ext cx="10440" cy="68472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66" name=""/>
          <p:cNvSpPr/>
          <p:nvPr/>
        </p:nvSpPr>
        <p:spPr>
          <a:xfrm>
            <a:off x="6365880" y="350532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65880" y="435132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6" idx="1"/>
            <a:endCxn id="160" idx="3"/>
          </p:cNvCxnSpPr>
          <p:nvPr/>
        </p:nvCxnSpPr>
        <p:spPr>
          <a:xfrm flipH="1">
            <a:off x="5779800" y="3854160"/>
            <a:ext cx="567360" cy="1639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9" name=""/>
          <p:cNvCxnSpPr>
            <a:stCxn id="167" idx="1"/>
            <a:endCxn id="160" idx="3"/>
          </p:cNvCxnSpPr>
          <p:nvPr/>
        </p:nvCxnSpPr>
        <p:spPr>
          <a:xfrm flipH="1">
            <a:off x="5779800" y="4700160"/>
            <a:ext cx="567360" cy="793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70" name=""/>
          <p:cNvSpPr/>
          <p:nvPr/>
        </p:nvSpPr>
        <p:spPr>
          <a:xfrm>
            <a:off x="7410240" y="3584520"/>
            <a:ext cx="1806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Tim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Maintain Conne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XML form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6320" y="120168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Tradit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8400" y="378936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Web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B2B Connectivity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2400" y="2822400"/>
            <a:ext cx="1047600" cy="1043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92400" y="3121200"/>
            <a:ext cx="92052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37520" y="1392120"/>
            <a:ext cx="57600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1336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1660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37520" y="2552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90600" y="494676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00640" y="19321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03880" y="228276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00640" y="32893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4800" y="332568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24080" y="3313080"/>
            <a:ext cx="67464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112920" y="1584360"/>
            <a:ext cx="190044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112920" y="1584360"/>
            <a:ext cx="280368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112920" y="1932120"/>
            <a:ext cx="4224600" cy="1473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112920" y="2282760"/>
            <a:ext cx="2187720" cy="1122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112920" y="2552760"/>
            <a:ext cx="3090960" cy="852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112920" y="2822040"/>
            <a:ext cx="4224600" cy="5828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12920" y="3405240"/>
            <a:ext cx="2187720" cy="1000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12920" y="3405240"/>
            <a:ext cx="2803680" cy="906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16600" y="411948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966000" y="3828600"/>
            <a:ext cx="658800" cy="4827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791480" y="401940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66000" y="4311720"/>
            <a:ext cx="65880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66000" y="4311720"/>
            <a:ext cx="700200" cy="635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78880" y="4676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24080" y="3505320"/>
            <a:ext cx="828720" cy="14414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75120" y="477360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as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75120" y="438948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73320" y="515772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75120" y="554184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ame 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341960" y="3828600"/>
            <a:ext cx="958680" cy="11178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341960" y="2822040"/>
            <a:ext cx="2995560" cy="2124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341960" y="2552760"/>
            <a:ext cx="1861920" cy="20066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341960" y="1931760"/>
            <a:ext cx="2995560" cy="2571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341960" y="2282400"/>
            <a:ext cx="958680" cy="3048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341960" y="1584000"/>
            <a:ext cx="671400" cy="3632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341960" y="2976480"/>
            <a:ext cx="3149280" cy="2565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341960" y="4389120"/>
            <a:ext cx="1535040" cy="13446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B2B Connectivity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1880" y="3502080"/>
          <a:ext cx="8450280" cy="23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502080"/>
                    <a:ext cx="8450280" cy="23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461880" y="1044720"/>
          <a:ext cx="8104320" cy="24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1880" y="1044720"/>
                    <a:ext cx="810432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511920" y="32338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Van F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2280" y="86040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haracter 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Secur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22400" y="2822400"/>
            <a:ext cx="1047600" cy="10432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192400" y="3121200"/>
            <a:ext cx="92052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37520" y="1392120"/>
            <a:ext cx="57600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1336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1660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7520" y="2552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90600" y="494676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00640" y="19321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03880" y="228276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00640" y="32893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4800" y="332568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24080" y="3313080"/>
            <a:ext cx="67464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112920" y="1584360"/>
            <a:ext cx="280368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16600" y="411948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966000" y="3828600"/>
            <a:ext cx="658800" cy="4827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791480" y="401940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66000" y="4311720"/>
            <a:ext cx="65880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66000" y="4311720"/>
            <a:ext cx="700200" cy="635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778880" y="4676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24080" y="3505320"/>
            <a:ext cx="828720" cy="14414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75120" y="477360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as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75120" y="438948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73320" y="515772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75120" y="554184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ame 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341960" y="3828600"/>
            <a:ext cx="958680" cy="11178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341960" y="2552760"/>
            <a:ext cx="1861920" cy="20066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341960" y="1931760"/>
            <a:ext cx="2995560" cy="2571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341960" y="2282400"/>
            <a:ext cx="958680" cy="3048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341960" y="1584000"/>
            <a:ext cx="671400" cy="3632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341960" y="2976480"/>
            <a:ext cx="3149280" cy="2565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1960" y="4389120"/>
            <a:ext cx="1535040" cy="13446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6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8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9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Secur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22360" y="2430360"/>
            <a:ext cx="734868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/MIM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G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F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ware Solu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l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X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EDI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C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TRAIN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Fla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8520" y="549360"/>
            <a:ext cx="8245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Data Trans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CSV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538280" y="1325520"/>
            <a:ext cx="64515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26T15:51:16Z</dcterms:modified>
  <cp:revision>881</cp:revision>
  <dc:subject/>
  <dc:title>IBM Software Group</dc:title>
</cp:coreProperties>
</file>