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303DC-43B6-445C-BE36-3E914E0CE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970E5-31C5-4553-B13C-076F752E4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80CC2-8F0E-4DD5-900C-32F0E6864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24662-0E82-42F2-9FD7-C1DB09AEC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B8CB-C7AD-46F8-9E41-40F75C0A6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620D8-16C6-4EEE-AF3C-343132BBE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D53B8-CF5E-4FF6-984D-51147E4B2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379B-18ED-41A1-A0EA-E153B1369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B8BBF-570E-4E2F-86F1-62216A3EF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B17A2-7E0F-4357-A09C-019C2B164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D3E5-3E46-4B19-85AB-30DFFB0E3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BFF33-A084-4740-88A4-2C950AFE0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AAFF-4870-446A-927C-CC32568A8931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2728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Messaging Solutions </a:t>
            </a:r>
            <a:br>
              <a:rPr sz="2400"/>
            </a:br>
            <a:br>
              <a:rPr sz="1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d Blankenship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reau of Customs and Border Protecti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 of Homel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diosyncras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eg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pecial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Automated Re-Send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articipation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ertification and Testing Req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 Turna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utage Sche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P Automated Re-Se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elp Desk /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Implementation Guide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stablish Grou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Group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Ver/release(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limi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mission Size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ntax Compliance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ta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pplication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stem Design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Backup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of Work and Synchpo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Message 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ngle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Logging in th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ecovery / Restart / Re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F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ask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h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030400" y="2563560"/>
            <a:ext cx="447048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ustom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14480" y="13410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 a Typical Day 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.S. Customs Service examine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.3 Million Passe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0,000 Trucks/Contai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48,000 Veh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500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2600 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ffects the following enforcement a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5 Arr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8 Narcotics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28 Other Seizures (Conveyances, Ammunition, Commercial Merchandise, Real Estate, Firearms and Weapons, Child Pornograph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 Currency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889fb"/>
                </a:solidFill>
                <a:latin typeface="Arial"/>
              </a:rPr>
              <a:t>A Day in the Life of Customs</a:t>
            </a: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00800" y="1370160"/>
            <a:ext cx="224640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Environment - Trade,  Enforcement, ED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 - Stora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Interf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MQ S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ion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Form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X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N/Edi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xed - Proprie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31496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46520" y="3149640"/>
            <a:ext cx="1371600" cy="1295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1800" y="1346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6880" y="18795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38760" y="1320840"/>
            <a:ext cx="1447920" cy="1447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74920" y="4826160"/>
            <a:ext cx="1447920" cy="12189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E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36068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064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45212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4600" y="25653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4600" y="32511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654280" y="1905120"/>
            <a:ext cx="4114080" cy="533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25480" y="4141440"/>
            <a:ext cx="92880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7360" y="3003480"/>
            <a:ext cx="110628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41480" y="2446200"/>
            <a:ext cx="136044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19400" y="1925640"/>
            <a:ext cx="151272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5880" y="4987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7687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11960" y="5384880"/>
            <a:ext cx="3200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 Server Fa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s Internal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35160" y="30733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4880" y="124452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57840" y="1981080"/>
            <a:ext cx="239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M MVS OS390 zOS Enterprise Serv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9880" y="3962520"/>
            <a:ext cx="1371600" cy="7617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GA’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7360" y="3597120"/>
            <a:ext cx="941400" cy="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- CICS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Proces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Demand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-Plex - 24x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ra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-Dataco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665440" y="51735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5440" y="4094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5440" y="3027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5440" y="2214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Communic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63760" y="4686480"/>
            <a:ext cx="243864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 U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1714680"/>
            <a:ext cx="2210040" cy="38811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65640" y="3695760"/>
            <a:ext cx="243828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icated L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- 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63760" y="2705040"/>
            <a:ext cx="243864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d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65640" y="1714680"/>
            <a:ext cx="243828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 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638360"/>
            <a:ext cx="2209680" cy="3933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-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Messaging Solu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30240" y="1649160"/>
            <a:ext cx="52768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is gu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 do it at Cus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Q Series - Benef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Messaging Solution - Internal/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 Independence /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ed Transl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Tas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MQ Frame Relay Topograph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211480" y="2913120"/>
            <a:ext cx="1857240" cy="1895040"/>
            <a:chOff x="2211480" y="2913120"/>
            <a:chExt cx="1857240" cy="189504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2211480" y="2913120"/>
              <a:ext cx="1857240" cy="18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033000" y="3258360"/>
              <a:ext cx="18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614680" y="3205080"/>
            <a:ext cx="93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pri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1496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13208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86600" y="28447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735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867280" y="238716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42163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880" y="16272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88288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52760" y="4027320"/>
            <a:ext cx="531720" cy="2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9400" y="3524400"/>
            <a:ext cx="482760" cy="12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41720" y="3751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620120" y="4063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391520" y="246384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160" y="41688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2401920"/>
            <a:ext cx="725760" cy="63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06360" y="5019840"/>
            <a:ext cx="1371600" cy="9903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82760" y="4500360"/>
            <a:ext cx="273240" cy="30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nty-Two CICS EDI Translation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oftware - E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Host MVS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“HOT” DI Shop Since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637000" y="1806480"/>
            <a:ext cx="693720" cy="1981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(EDI Server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43320" y="1801800"/>
            <a:ext cx="2274840" cy="16606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05400" y="1749600"/>
            <a:ext cx="17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51240" y="3022560"/>
            <a:ext cx="2244600" cy="836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ter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44400" y="2332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ed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29320" y="1812960"/>
            <a:ext cx="693720" cy="1952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83440" y="235584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w Ap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0120" y="371304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96080" y="518004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53240" y="445140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05000" y="395136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920" y="528948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54360" y="461952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1320" y="530388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7040" y="226368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1080" y="4863960"/>
            <a:ext cx="1074600" cy="1111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20800" y="3236760"/>
            <a:ext cx="1440" cy="13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38440" y="258120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92960" y="260496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262560" y="3282840"/>
            <a:ext cx="1067040" cy="15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5800" y="3435480"/>
            <a:ext cx="31608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8103960" y="3146400"/>
            <a:ext cx="111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430280" y="3110040"/>
            <a:ext cx="1800" cy="71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87960" y="194616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88400" y="2846520"/>
            <a:ext cx="164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4844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Typical Application Interfac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8640" y="1952640"/>
            <a:ext cx="18525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03360" y="2752560"/>
            <a:ext cx="174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* 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7960" y="1946160"/>
            <a:ext cx="118404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40080" y="291924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50040" y="1944720"/>
            <a:ext cx="65556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Export System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48640" y="192708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39520" y="1951200"/>
            <a:ext cx="11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19680" y="3189240"/>
            <a:ext cx="534960" cy="306360"/>
            <a:chOff x="5719680" y="3189240"/>
            <a:chExt cx="534960" cy="306360"/>
          </a:xfrm>
        </p:grpSpPr>
        <p:sp>
          <p:nvSpPr>
            <p:cNvPr id="310" name=""/>
            <p:cNvSpPr/>
            <p:nvPr/>
          </p:nvSpPr>
          <p:spPr>
            <a:xfrm>
              <a:off x="5719680" y="318924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97520" y="344304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97520" y="339228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97520" y="334152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97520" y="329076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705640" y="4059360"/>
            <a:ext cx="534960" cy="306360"/>
            <a:chOff x="5705640" y="4059360"/>
            <a:chExt cx="534960" cy="306360"/>
          </a:xfrm>
        </p:grpSpPr>
        <p:sp>
          <p:nvSpPr>
            <p:cNvPr id="316" name=""/>
            <p:cNvSpPr/>
            <p:nvPr/>
          </p:nvSpPr>
          <p:spPr>
            <a:xfrm>
              <a:off x="5705640" y="40593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83480" y="43131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83480" y="42624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83480" y="42116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83480" y="41608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740560" y="4946760"/>
            <a:ext cx="534960" cy="306360"/>
            <a:chOff x="5740560" y="4946760"/>
            <a:chExt cx="534960" cy="306360"/>
          </a:xfrm>
        </p:grpSpPr>
        <p:sp>
          <p:nvSpPr>
            <p:cNvPr id="322" name=""/>
            <p:cNvSpPr/>
            <p:nvPr/>
          </p:nvSpPr>
          <p:spPr>
            <a:xfrm>
              <a:off x="5740560" y="49467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18400" y="52005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18400" y="51498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18400" y="50990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18400" y="50482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107040" y="3160800"/>
            <a:ext cx="25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Raw EDI Image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37360" y="393876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Application Data Que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62200" y="4973760"/>
            <a:ext cx="24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Warning Messages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1920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1920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0480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9544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952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AMS Appl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1571760"/>
            <a:ext cx="5257800" cy="44956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2800" y="561024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CS Mainframe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1952640"/>
            <a:ext cx="41907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3824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3824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3824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3824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22880" y="195264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Manifest System Applic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94240" y="3009960"/>
            <a:ext cx="693720" cy="250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1200" y="3011400"/>
            <a:ext cx="1401480" cy="2514600"/>
            <a:chOff x="6091200" y="3011400"/>
            <a:chExt cx="1401480" cy="2514600"/>
          </a:xfrm>
        </p:grpSpPr>
        <p:sp>
          <p:nvSpPr>
            <p:cNvPr id="347" name=""/>
            <p:cNvSpPr/>
            <p:nvPr/>
          </p:nvSpPr>
          <p:spPr>
            <a:xfrm>
              <a:off x="6091200" y="3011400"/>
              <a:ext cx="1401480" cy="2514600"/>
            </a:xfrm>
            <a:prstGeom prst="rect">
              <a:avLst/>
            </a:prstGeom>
            <a:gradFill rotWithShape="0">
              <a:gsLst>
                <a:gs pos="0">
                  <a:srgbClr val="7889fb"/>
                </a:gs>
                <a:gs pos="50000">
                  <a:srgbClr val="66ffff"/>
                </a:gs>
                <a:gs pos="100000">
                  <a:srgbClr val="7889fb"/>
                </a:gs>
              </a:gsLst>
              <a:lin ang="5400000"/>
            </a:gradFill>
            <a:ln w="12600">
              <a:solidFill>
                <a:srgbClr val="0606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1200" y="3620880"/>
              <a:ext cx="131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EDI Translatio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Gatewa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7493040" y="3003480"/>
            <a:ext cx="693720" cy="25005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eworthy …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Translation and Appl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CIC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 &amp; Post Translate Images Available to 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threaded Copies of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thru MQMD-Ms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nds &amp; “Hot Stuff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s Modernization e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756720" y="2131920"/>
            <a:ext cx="73486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sumés 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14480" y="1527120"/>
            <a:ext cx="7348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EDI Gateway Architecture - EDI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Platforms &amp; Trigger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d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 (DI)  Software &amp;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2 &amp; EDIFACT Standard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 /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ding Partner Enab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Frame Rela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erver -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(MQ Frame Relay, SNA, Dial, VA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hitect / Re-Engineer / Tune   EDI Processing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oubleshoot Messaging Problems (Internal/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ison to X12  (XML Design eff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Customs IG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app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93760" y="2359080"/>
            <a:ext cx="4475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7280" y="3162240"/>
            <a:ext cx="1303200" cy="21654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84920" y="3357720"/>
            <a:ext cx="1303200" cy="21222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00920" y="2374920"/>
            <a:ext cx="1612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12920" y="4221000"/>
            <a:ext cx="636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94080" y="4673520"/>
            <a:ext cx="636840" cy="0"/>
          </a:xfrm>
          <a:prstGeom prst="line">
            <a:avLst/>
          </a:prstGeom>
          <a:ln w="19080">
            <a:solidFill>
              <a:srgbClr val="00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nother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83440" y="1492200"/>
            <a:ext cx="16128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24080" y="2359080"/>
            <a:ext cx="5051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2640" y="3170160"/>
            <a:ext cx="1303200" cy="21225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7720" y="4659480"/>
            <a:ext cx="1617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64280" y="4375080"/>
            <a:ext cx="1303200" cy="1430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12920" y="4221000"/>
            <a:ext cx="8812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now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it takes to build a Bulletproof Real-ti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240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ze &amp;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stem Critic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 /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vity / 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LC - Development thru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-based vs. One-W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et(s)  /  Version Releases / DMR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ize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le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yntax Complianc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 Error Toler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Acknowledg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Trading Partner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Authentication -  D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5:56Z</dcterms:modified>
  <cp:revision>895</cp:revision>
  <dc:subject/>
  <dc:title>IBM Software Group</dc:title>
</cp:coreProperties>
</file>