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1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1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FB34D25-8B9E-47F3-915B-8FAC8AAF5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pre-reqs for z/OS and OS/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Client is a cross platform, multi system user interface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Maps may be created and tested on a Window 2000 server and run in production on an AIX, OS/390 or z/OS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roved WDI Client provides support for target based mapping providing addition control no matter which direction the map is used for .  The new Create Map Wizard also provides setup support for new Data Transformation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lone requires data to be exported from WDI Client, transferred to the server and imported to WDI server.  Import/Export are functions provided with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ing a single, common database on the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e a single, common database.  A local DB may also be used for a stand-alone development system.  Maps, profiles, etc. can be exported from the 'local' system to the client/server systems using 'export to system'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he website for additional cours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phere Data Interchange is included in the Community Integration Services of the BI Reference Architecture and provides data transformation (EDI/XML) at the ‘enterprise boundary’.  WBI-Connect provides communications and process control with the trading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main components of WebSphere Data Interchange are the Server (runtime) and WDI Client (tools &amp; administration).  DB2 is the required database for the server component and is included with WDI v3.2 for Multiplatforms 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eployment overview with WBI, WBI-C and legacy commun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can be provided by WBI-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packaging for the distributed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B0F07-ED86-40A9-8013-63976491A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FF5F-D976-4CE6-B1FD-FB2DBBB3D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258E-814B-47AF-8CDE-FECEF4F9D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B7BA-2A28-40E0-9366-BCBA92E11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3AE44-FF3F-4B3B-A384-2B243F26D0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48485-2D59-467D-82A0-F959879E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74463-C0BE-4FE3-808A-2DB464C6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E5800-F6EC-4AAF-B945-3842BFFE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A2C37-70D5-445E-ADF6-CB77824B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59B64-C938-4AC2-AFA4-4ABC25ED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8585-EEF5-4B72-930E-5C5545055A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E8213-553E-4A15-9776-EE0C1BED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DDA22-E93A-45C2-90F2-27D8959D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05FAF-0B47-40E3-99BB-FB783B93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C9279-D448-44EA-ADBA-0BF9AD4E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9555A-11AE-452F-B194-1043E51A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BDD7B-116A-43BB-9EF7-A8ED7C0E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B5E34-49C6-43AB-A43C-8CCEB336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693FD5-BD65-4C2B-8F32-0AE56A7A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01F399-C718-4FAC-96A2-A3445771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66C621-AFE3-4FD5-BD54-C021D60A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9B2A5-D13E-43B5-A93C-67749B62AC9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0B27D0-C9A7-48FF-A25D-3B978C95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F97888-EB7D-430D-A332-4DB62C73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00B145-5C76-4203-87D8-E71C6761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1AD90B-C5DF-487A-8F1F-E9DEABA7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5D1E9D-4CE6-4FA5-8519-E57812C5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1DFA8F-AEE9-4A50-8C60-43AF0235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14886B-FB8D-4D4A-8250-54B7E2E0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7AD1EF-8340-4A22-962D-ED998361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2833BF-81ED-4A68-A948-16457E94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D5BD8D-6F69-4E10-A488-63167A81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51D7-D170-4C19-94A8-844F1EB1805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538B11-62E9-452C-AD40-AE38E4C4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BECDA3-062D-40AF-B268-D753A1CD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A6B863-B38A-4BBF-A0E6-54879252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D73C0B-F388-43BA-A282-D8833545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1202CE-53ED-4D61-A686-5F5FD813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0FD3C6-97B0-48CB-9D81-22A91801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98286A-B53D-47D3-9E0D-42C525F1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D07F90-9615-4D7C-8E21-A3D0F83A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382504-AE7A-4718-8CC3-FC74F263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E0ADA5-2CB4-42E8-892C-193AA2CD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5A0A-1247-4717-B606-F6CC0073C76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6126C1-B16B-435E-A3A1-D91563BA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820B70-40A9-4E9B-9038-CBEC555C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954F4E-4CAC-461A-B922-1F1EE642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31F141-94F9-480F-8FA5-F651D28D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6F8F33-7D56-436C-A9B5-16344C7A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5995D8-7780-424A-BC5A-B01B2D87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8CB434-0CEF-4742-ACD3-61AAC0CC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4BE73B-28EB-4338-AC25-44B0F6A7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C9F0E1-56F8-430B-883A-776FC388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4E1A61-BFDB-4D3F-B722-9D3C39D2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A8940-4519-4F14-942C-1B574F8D66A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CBFD83-5E6B-4E3B-8C2C-F3D5FAD2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0A5EB0-4F26-4A35-BE69-4E370E3C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B20BFF-C3DC-41A9-81E4-521DC2ED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8A0A3-F37A-4C7E-A028-6E57C72ACA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03B2C-24F3-4194-A985-08FAD46B7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Sphere Data Interchange v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6885-4DDC-4F7B-9B42-2A49A90307B3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4BD8-BEC4-4DB5-8D27-09BD15232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3881-8746-47CA-A76A-5475BB98D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AFB6-4DBD-40E4-AFE8-9F7615716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D4EC-7BF2-48D6-9922-3BC725C97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36840" y="183240"/>
            <a:ext cx="174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GLOBAL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44320" y="3444480"/>
            <a:ext cx="3016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ransaction &amp; Mess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   </a:t>
            </a: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echnical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11160" y="3681000"/>
            <a:ext cx="166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19f80"/>
                </a:solidFill>
                <a:latin typeface="Arial"/>
              </a:rPr>
              <a:t>June 14-18 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3205080"/>
            <a:ext cx="6346800" cy="1116000"/>
          </a:xfrm>
          <a:prstGeom prst="rect">
            <a:avLst/>
          </a:prstGeom>
          <a:noFill/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99040" y="3371760"/>
            <a:ext cx="0" cy="811440"/>
          </a:xfrm>
          <a:prstGeom prst="line">
            <a:avLst/>
          </a:prstGeom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9920" y="4385520"/>
            <a:ext cx="25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40b3"/>
                </a:solidFill>
                <a:latin typeface="Arial"/>
              </a:rPr>
              <a:t>Las Vegas Hilton, Las Vegas, NV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4322880"/>
            <a:ext cx="0" cy="533160"/>
          </a:xfrm>
          <a:prstGeom prst="line">
            <a:avLst/>
          </a:prstGeom>
          <a:ln w="12600">
            <a:solidFill>
              <a:srgbClr val="0040b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10080" y="4751280"/>
            <a:ext cx="2866680" cy="1405080"/>
            <a:chOff x="5410080" y="4751280"/>
            <a:chExt cx="2866680" cy="1405080"/>
          </a:xfrm>
        </p:grpSpPr>
        <p:sp>
          <p:nvSpPr>
            <p:cNvPr id="352" name=""/>
            <p:cNvSpPr/>
            <p:nvPr/>
          </p:nvSpPr>
          <p:spPr>
            <a:xfrm>
              <a:off x="6644160" y="4986000"/>
              <a:ext cx="407520" cy="100080"/>
            </a:xfrm>
            <a:custGeom>
              <a:avLst/>
              <a:gdLst/>
              <a:ahLst/>
              <a:rect l="l" t="t" r="r" b="b"/>
              <a:pathLst>
                <a:path w="358" h="88">
                  <a:moveTo>
                    <a:pt x="358" y="0"/>
                  </a:moveTo>
                  <a:lnTo>
                    <a:pt x="357" y="0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5" y="4"/>
                  </a:lnTo>
                  <a:lnTo>
                    <a:pt x="353" y="6"/>
                  </a:lnTo>
                  <a:lnTo>
                    <a:pt x="351" y="7"/>
                  </a:lnTo>
                  <a:lnTo>
                    <a:pt x="349" y="10"/>
                  </a:lnTo>
                  <a:lnTo>
                    <a:pt x="346" y="12"/>
                  </a:lnTo>
                  <a:lnTo>
                    <a:pt x="342" y="15"/>
                  </a:lnTo>
                  <a:lnTo>
                    <a:pt x="339" y="18"/>
                  </a:lnTo>
                  <a:lnTo>
                    <a:pt x="337" y="22"/>
                  </a:lnTo>
                  <a:lnTo>
                    <a:pt x="332" y="24"/>
                  </a:lnTo>
                  <a:lnTo>
                    <a:pt x="328" y="28"/>
                  </a:lnTo>
                  <a:lnTo>
                    <a:pt x="323" y="31"/>
                  </a:lnTo>
                  <a:lnTo>
                    <a:pt x="318" y="35"/>
                  </a:lnTo>
                  <a:lnTo>
                    <a:pt x="313" y="39"/>
                  </a:lnTo>
                  <a:lnTo>
                    <a:pt x="307" y="43"/>
                  </a:lnTo>
                  <a:lnTo>
                    <a:pt x="302" y="47"/>
                  </a:lnTo>
                  <a:lnTo>
                    <a:pt x="297" y="50"/>
                  </a:lnTo>
                  <a:lnTo>
                    <a:pt x="290" y="54"/>
                  </a:lnTo>
                  <a:lnTo>
                    <a:pt x="283" y="58"/>
                  </a:lnTo>
                  <a:lnTo>
                    <a:pt x="278" y="61"/>
                  </a:lnTo>
                  <a:lnTo>
                    <a:pt x="270" y="64"/>
                  </a:lnTo>
                  <a:lnTo>
                    <a:pt x="263" y="68"/>
                  </a:lnTo>
                  <a:lnTo>
                    <a:pt x="256" y="71"/>
                  </a:lnTo>
                  <a:lnTo>
                    <a:pt x="248" y="74"/>
                  </a:lnTo>
                  <a:lnTo>
                    <a:pt x="241" y="76"/>
                  </a:lnTo>
                  <a:lnTo>
                    <a:pt x="233" y="79"/>
                  </a:lnTo>
                  <a:lnTo>
                    <a:pt x="225" y="82"/>
                  </a:lnTo>
                  <a:lnTo>
                    <a:pt x="216" y="83"/>
                  </a:lnTo>
                  <a:lnTo>
                    <a:pt x="208" y="85"/>
                  </a:lnTo>
                  <a:lnTo>
                    <a:pt x="199" y="87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2" y="88"/>
                  </a:lnTo>
                  <a:lnTo>
                    <a:pt x="163" y="88"/>
                  </a:lnTo>
                  <a:lnTo>
                    <a:pt x="153" y="88"/>
                  </a:lnTo>
                  <a:lnTo>
                    <a:pt x="144" y="87"/>
                  </a:lnTo>
                  <a:lnTo>
                    <a:pt x="134" y="85"/>
                  </a:lnTo>
                  <a:lnTo>
                    <a:pt x="124" y="83"/>
                  </a:lnTo>
                  <a:lnTo>
                    <a:pt x="114" y="80"/>
                  </a:lnTo>
                  <a:lnTo>
                    <a:pt x="104" y="76"/>
                  </a:lnTo>
                  <a:lnTo>
                    <a:pt x="94" y="74"/>
                  </a:lnTo>
                  <a:lnTo>
                    <a:pt x="84" y="69"/>
                  </a:lnTo>
                  <a:lnTo>
                    <a:pt x="73" y="64"/>
                  </a:lnTo>
                  <a:lnTo>
                    <a:pt x="63" y="58"/>
                  </a:lnTo>
                  <a:lnTo>
                    <a:pt x="53" y="52"/>
                  </a:lnTo>
                  <a:lnTo>
                    <a:pt x="42" y="44"/>
                  </a:lnTo>
                  <a:lnTo>
                    <a:pt x="32" y="36"/>
                  </a:lnTo>
                  <a:lnTo>
                    <a:pt x="20" y="28"/>
                  </a:lnTo>
                  <a:lnTo>
                    <a:pt x="11" y="18"/>
                  </a:lnTo>
                  <a:lnTo>
                    <a:pt x="0" y="8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642360" y="4995000"/>
              <a:ext cx="1080" cy="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1720" y="4751280"/>
              <a:ext cx="531000" cy="243720"/>
            </a:xfrm>
            <a:custGeom>
              <a:avLst/>
              <a:gdLst/>
              <a:ahLst/>
              <a:rect l="l" t="t" r="r" b="b"/>
              <a:pathLst>
                <a:path w="466" h="214">
                  <a:moveTo>
                    <a:pt x="466" y="214"/>
                  </a:moveTo>
                  <a:lnTo>
                    <a:pt x="460" y="206"/>
                  </a:lnTo>
                  <a:lnTo>
                    <a:pt x="453" y="200"/>
                  </a:lnTo>
                  <a:lnTo>
                    <a:pt x="447" y="192"/>
                  </a:lnTo>
                  <a:lnTo>
                    <a:pt x="440" y="185"/>
                  </a:lnTo>
                  <a:lnTo>
                    <a:pt x="434" y="178"/>
                  </a:lnTo>
                  <a:lnTo>
                    <a:pt x="427" y="172"/>
                  </a:lnTo>
                  <a:lnTo>
                    <a:pt x="419" y="166"/>
                  </a:lnTo>
                  <a:lnTo>
                    <a:pt x="412" y="159"/>
                  </a:lnTo>
                  <a:lnTo>
                    <a:pt x="404" y="153"/>
                  </a:lnTo>
                  <a:lnTo>
                    <a:pt x="398" y="146"/>
                  </a:lnTo>
                  <a:lnTo>
                    <a:pt x="390" y="140"/>
                  </a:lnTo>
                  <a:lnTo>
                    <a:pt x="383" y="134"/>
                  </a:lnTo>
                  <a:lnTo>
                    <a:pt x="375" y="128"/>
                  </a:lnTo>
                  <a:lnTo>
                    <a:pt x="368" y="122"/>
                  </a:lnTo>
                  <a:lnTo>
                    <a:pt x="360" y="117"/>
                  </a:lnTo>
                  <a:lnTo>
                    <a:pt x="352" y="111"/>
                  </a:lnTo>
                  <a:lnTo>
                    <a:pt x="344" y="105"/>
                  </a:lnTo>
                  <a:lnTo>
                    <a:pt x="336" y="100"/>
                  </a:lnTo>
                  <a:lnTo>
                    <a:pt x="329" y="96"/>
                  </a:lnTo>
                  <a:lnTo>
                    <a:pt x="320" y="90"/>
                  </a:lnTo>
                  <a:lnTo>
                    <a:pt x="312" y="85"/>
                  </a:lnTo>
                  <a:lnTo>
                    <a:pt x="303" y="80"/>
                  </a:lnTo>
                  <a:lnTo>
                    <a:pt x="295" y="76"/>
                  </a:lnTo>
                  <a:lnTo>
                    <a:pt x="286" y="71"/>
                  </a:lnTo>
                  <a:lnTo>
                    <a:pt x="278" y="67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51" y="54"/>
                  </a:lnTo>
                  <a:lnTo>
                    <a:pt x="242" y="50"/>
                  </a:lnTo>
                  <a:lnTo>
                    <a:pt x="233" y="46"/>
                  </a:lnTo>
                  <a:lnTo>
                    <a:pt x="225" y="42"/>
                  </a:lnTo>
                  <a:lnTo>
                    <a:pt x="216" y="40"/>
                  </a:lnTo>
                  <a:lnTo>
                    <a:pt x="206" y="36"/>
                  </a:lnTo>
                  <a:lnTo>
                    <a:pt x="197" y="33"/>
                  </a:lnTo>
                  <a:lnTo>
                    <a:pt x="187" y="29"/>
                  </a:lnTo>
                  <a:lnTo>
                    <a:pt x="178" y="27"/>
                  </a:lnTo>
                  <a:lnTo>
                    <a:pt x="169" y="24"/>
                  </a:lnTo>
                  <a:lnTo>
                    <a:pt x="159" y="21"/>
                  </a:lnTo>
                  <a:lnTo>
                    <a:pt x="149" y="19"/>
                  </a:lnTo>
                  <a:lnTo>
                    <a:pt x="141" y="16"/>
                  </a:lnTo>
                  <a:lnTo>
                    <a:pt x="130" y="15"/>
                  </a:lnTo>
                  <a:lnTo>
                    <a:pt x="121" y="12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2" y="7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008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0"/>
                  </a:moveTo>
                  <a:lnTo>
                    <a:pt x="606" y="0"/>
                  </a:lnTo>
                  <a:lnTo>
                    <a:pt x="596" y="0"/>
                  </a:lnTo>
                  <a:lnTo>
                    <a:pt x="587" y="1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60" y="3"/>
                  </a:lnTo>
                  <a:lnTo>
                    <a:pt x="551" y="3"/>
                  </a:lnTo>
                  <a:lnTo>
                    <a:pt x="541" y="5"/>
                  </a:lnTo>
                  <a:lnTo>
                    <a:pt x="532" y="6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5" y="10"/>
                  </a:lnTo>
                  <a:lnTo>
                    <a:pt x="496" y="12"/>
                  </a:lnTo>
                  <a:lnTo>
                    <a:pt x="487" y="14"/>
                  </a:lnTo>
                  <a:lnTo>
                    <a:pt x="477" y="16"/>
                  </a:lnTo>
                  <a:lnTo>
                    <a:pt x="469" y="17"/>
                  </a:lnTo>
                  <a:lnTo>
                    <a:pt x="460" y="20"/>
                  </a:lnTo>
                  <a:lnTo>
                    <a:pt x="452" y="22"/>
                  </a:lnTo>
                  <a:lnTo>
                    <a:pt x="443" y="25"/>
                  </a:lnTo>
                  <a:lnTo>
                    <a:pt x="435" y="28"/>
                  </a:lnTo>
                  <a:lnTo>
                    <a:pt x="427" y="30"/>
                  </a:lnTo>
                  <a:lnTo>
                    <a:pt x="417" y="33"/>
                  </a:lnTo>
                  <a:lnTo>
                    <a:pt x="409" y="36"/>
                  </a:lnTo>
                  <a:lnTo>
                    <a:pt x="401" y="39"/>
                  </a:lnTo>
                  <a:lnTo>
                    <a:pt x="392" y="42"/>
                  </a:lnTo>
                  <a:lnTo>
                    <a:pt x="384" y="45"/>
                  </a:lnTo>
                  <a:lnTo>
                    <a:pt x="376" y="49"/>
                  </a:lnTo>
                  <a:lnTo>
                    <a:pt x="368" y="52"/>
                  </a:lnTo>
                  <a:lnTo>
                    <a:pt x="360" y="56"/>
                  </a:lnTo>
                  <a:lnTo>
                    <a:pt x="352" y="60"/>
                  </a:lnTo>
                  <a:lnTo>
                    <a:pt x="343" y="64"/>
                  </a:lnTo>
                  <a:lnTo>
                    <a:pt x="336" y="68"/>
                  </a:lnTo>
                  <a:lnTo>
                    <a:pt x="328" y="71"/>
                  </a:lnTo>
                  <a:lnTo>
                    <a:pt x="320" y="76"/>
                  </a:lnTo>
                  <a:lnTo>
                    <a:pt x="312" y="80"/>
                  </a:lnTo>
                  <a:lnTo>
                    <a:pt x="304" y="84"/>
                  </a:lnTo>
                  <a:lnTo>
                    <a:pt x="298" y="89"/>
                  </a:lnTo>
                  <a:lnTo>
                    <a:pt x="290" y="94"/>
                  </a:lnTo>
                  <a:lnTo>
                    <a:pt x="282" y="98"/>
                  </a:lnTo>
                  <a:lnTo>
                    <a:pt x="275" y="103"/>
                  </a:lnTo>
                  <a:lnTo>
                    <a:pt x="268" y="108"/>
                  </a:lnTo>
                  <a:lnTo>
                    <a:pt x="260" y="113"/>
                  </a:lnTo>
                  <a:lnTo>
                    <a:pt x="254" y="118"/>
                  </a:lnTo>
                  <a:lnTo>
                    <a:pt x="246" y="124"/>
                  </a:lnTo>
                  <a:lnTo>
                    <a:pt x="239" y="129"/>
                  </a:lnTo>
                  <a:lnTo>
                    <a:pt x="232" y="134"/>
                  </a:lnTo>
                  <a:lnTo>
                    <a:pt x="226" y="140"/>
                  </a:lnTo>
                  <a:lnTo>
                    <a:pt x="219" y="145"/>
                  </a:lnTo>
                  <a:lnTo>
                    <a:pt x="212" y="152"/>
                  </a:lnTo>
                  <a:lnTo>
                    <a:pt x="206" y="157"/>
                  </a:lnTo>
                  <a:lnTo>
                    <a:pt x="199" y="162"/>
                  </a:lnTo>
                  <a:lnTo>
                    <a:pt x="193" y="169"/>
                  </a:lnTo>
                  <a:lnTo>
                    <a:pt x="186" y="174"/>
                  </a:lnTo>
                  <a:lnTo>
                    <a:pt x="181" y="181"/>
                  </a:lnTo>
                  <a:lnTo>
                    <a:pt x="174" y="186"/>
                  </a:lnTo>
                  <a:lnTo>
                    <a:pt x="169" y="193"/>
                  </a:lnTo>
                  <a:lnTo>
                    <a:pt x="162" y="200"/>
                  </a:lnTo>
                  <a:lnTo>
                    <a:pt x="156" y="206"/>
                  </a:lnTo>
                  <a:lnTo>
                    <a:pt x="150" y="213"/>
                  </a:lnTo>
                  <a:lnTo>
                    <a:pt x="144" y="219"/>
                  </a:lnTo>
                  <a:lnTo>
                    <a:pt x="139" y="226"/>
                  </a:lnTo>
                  <a:lnTo>
                    <a:pt x="134" y="233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4"/>
                  </a:lnTo>
                  <a:lnTo>
                    <a:pt x="113" y="261"/>
                  </a:lnTo>
                  <a:lnTo>
                    <a:pt x="107" y="268"/>
                  </a:lnTo>
                  <a:lnTo>
                    <a:pt x="102" y="275"/>
                  </a:lnTo>
                  <a:lnTo>
                    <a:pt x="98" y="282"/>
                  </a:lnTo>
                  <a:lnTo>
                    <a:pt x="93" y="290"/>
                  </a:lnTo>
                  <a:lnTo>
                    <a:pt x="88" y="298"/>
                  </a:lnTo>
                  <a:lnTo>
                    <a:pt x="83" y="305"/>
                  </a:lnTo>
                  <a:lnTo>
                    <a:pt x="79" y="313"/>
                  </a:lnTo>
                  <a:lnTo>
                    <a:pt x="75" y="321"/>
                  </a:lnTo>
                  <a:lnTo>
                    <a:pt x="71" y="329"/>
                  </a:lnTo>
                  <a:lnTo>
                    <a:pt x="66" y="336"/>
                  </a:lnTo>
                  <a:lnTo>
                    <a:pt x="63" y="345"/>
                  </a:lnTo>
                  <a:lnTo>
                    <a:pt x="59" y="352"/>
                  </a:lnTo>
                  <a:lnTo>
                    <a:pt x="55" y="361"/>
                  </a:lnTo>
                  <a:lnTo>
                    <a:pt x="52" y="369"/>
                  </a:lnTo>
                  <a:lnTo>
                    <a:pt x="48" y="377"/>
                  </a:lnTo>
                  <a:lnTo>
                    <a:pt x="45" y="385"/>
                  </a:lnTo>
                  <a:lnTo>
                    <a:pt x="41" y="393"/>
                  </a:lnTo>
                  <a:lnTo>
                    <a:pt x="38" y="401"/>
                  </a:lnTo>
                  <a:lnTo>
                    <a:pt x="34" y="410"/>
                  </a:lnTo>
                  <a:lnTo>
                    <a:pt x="32" y="418"/>
                  </a:lnTo>
                  <a:lnTo>
                    <a:pt x="29" y="427"/>
                  </a:lnTo>
                  <a:lnTo>
                    <a:pt x="26" y="435"/>
                  </a:lnTo>
                  <a:lnTo>
                    <a:pt x="24" y="443"/>
                  </a:lnTo>
                  <a:lnTo>
                    <a:pt x="22" y="453"/>
                  </a:lnTo>
                  <a:lnTo>
                    <a:pt x="20" y="461"/>
                  </a:lnTo>
                  <a:lnTo>
                    <a:pt x="17" y="470"/>
                  </a:lnTo>
                  <a:lnTo>
                    <a:pt x="15" y="479"/>
                  </a:lnTo>
                  <a:lnTo>
                    <a:pt x="13" y="488"/>
                  </a:lnTo>
                  <a:lnTo>
                    <a:pt x="11" y="496"/>
                  </a:lnTo>
                  <a:lnTo>
                    <a:pt x="10" y="506"/>
                  </a:lnTo>
                  <a:lnTo>
                    <a:pt x="8" y="515"/>
                  </a:lnTo>
                  <a:lnTo>
                    <a:pt x="6" y="523"/>
                  </a:lnTo>
                  <a:lnTo>
                    <a:pt x="5" y="533"/>
                  </a:lnTo>
                  <a:lnTo>
                    <a:pt x="4" y="542"/>
                  </a:lnTo>
                  <a:lnTo>
                    <a:pt x="3" y="551"/>
                  </a:lnTo>
                  <a:lnTo>
                    <a:pt x="2" y="560"/>
                  </a:lnTo>
                  <a:lnTo>
                    <a:pt x="1" y="570"/>
                  </a:lnTo>
                  <a:lnTo>
                    <a:pt x="1" y="579"/>
                  </a:lnTo>
                  <a:lnTo>
                    <a:pt x="0" y="588"/>
                  </a:lnTo>
                  <a:lnTo>
                    <a:pt x="0" y="598"/>
                  </a:lnTo>
                  <a:lnTo>
                    <a:pt x="0" y="607"/>
                  </a:lnTo>
                  <a:lnTo>
                    <a:pt x="0" y="61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008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1" y="120"/>
                  </a:lnTo>
                  <a:lnTo>
                    <a:pt x="13" y="130"/>
                  </a:lnTo>
                  <a:lnTo>
                    <a:pt x="15" y="138"/>
                  </a:lnTo>
                  <a:lnTo>
                    <a:pt x="17" y="147"/>
                  </a:lnTo>
                  <a:lnTo>
                    <a:pt x="20" y="155"/>
                  </a:lnTo>
                  <a:lnTo>
                    <a:pt x="22" y="164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90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8" y="215"/>
                  </a:lnTo>
                  <a:lnTo>
                    <a:pt x="41" y="224"/>
                  </a:lnTo>
                  <a:lnTo>
                    <a:pt x="45" y="232"/>
                  </a:lnTo>
                  <a:lnTo>
                    <a:pt x="48" y="240"/>
                  </a:lnTo>
                  <a:lnTo>
                    <a:pt x="52" y="249"/>
                  </a:lnTo>
                  <a:lnTo>
                    <a:pt x="55" y="256"/>
                  </a:lnTo>
                  <a:lnTo>
                    <a:pt x="59" y="265"/>
                  </a:lnTo>
                  <a:lnTo>
                    <a:pt x="63" y="272"/>
                  </a:lnTo>
                  <a:lnTo>
                    <a:pt x="66" y="280"/>
                  </a:lnTo>
                  <a:lnTo>
                    <a:pt x="71" y="288"/>
                  </a:lnTo>
                  <a:lnTo>
                    <a:pt x="75" y="296"/>
                  </a:lnTo>
                  <a:lnTo>
                    <a:pt x="79" y="304"/>
                  </a:lnTo>
                  <a:lnTo>
                    <a:pt x="83" y="312"/>
                  </a:lnTo>
                  <a:lnTo>
                    <a:pt x="88" y="319"/>
                  </a:lnTo>
                  <a:lnTo>
                    <a:pt x="93" y="327"/>
                  </a:lnTo>
                  <a:lnTo>
                    <a:pt x="98" y="334"/>
                  </a:lnTo>
                  <a:lnTo>
                    <a:pt x="102" y="341"/>
                  </a:lnTo>
                  <a:lnTo>
                    <a:pt x="107" y="348"/>
                  </a:lnTo>
                  <a:lnTo>
                    <a:pt x="113" y="355"/>
                  </a:lnTo>
                  <a:lnTo>
                    <a:pt x="117" y="363"/>
                  </a:lnTo>
                  <a:lnTo>
                    <a:pt x="123" y="369"/>
                  </a:lnTo>
                  <a:lnTo>
                    <a:pt x="128" y="377"/>
                  </a:lnTo>
                  <a:lnTo>
                    <a:pt x="134" y="383"/>
                  </a:lnTo>
                  <a:lnTo>
                    <a:pt x="139" y="391"/>
                  </a:lnTo>
                  <a:lnTo>
                    <a:pt x="144" y="397"/>
                  </a:lnTo>
                  <a:lnTo>
                    <a:pt x="150" y="404"/>
                  </a:lnTo>
                  <a:lnTo>
                    <a:pt x="156" y="410"/>
                  </a:lnTo>
                  <a:lnTo>
                    <a:pt x="162" y="417"/>
                  </a:lnTo>
                  <a:lnTo>
                    <a:pt x="169" y="423"/>
                  </a:lnTo>
                  <a:lnTo>
                    <a:pt x="174" y="429"/>
                  </a:lnTo>
                  <a:lnTo>
                    <a:pt x="181" y="436"/>
                  </a:lnTo>
                  <a:lnTo>
                    <a:pt x="186" y="442"/>
                  </a:lnTo>
                  <a:lnTo>
                    <a:pt x="193" y="448"/>
                  </a:lnTo>
                  <a:lnTo>
                    <a:pt x="199" y="454"/>
                  </a:lnTo>
                  <a:lnTo>
                    <a:pt x="206" y="460"/>
                  </a:lnTo>
                  <a:lnTo>
                    <a:pt x="212" y="466"/>
                  </a:lnTo>
                  <a:lnTo>
                    <a:pt x="219" y="472"/>
                  </a:lnTo>
                  <a:lnTo>
                    <a:pt x="226" y="477"/>
                  </a:lnTo>
                  <a:lnTo>
                    <a:pt x="232" y="482"/>
                  </a:lnTo>
                  <a:lnTo>
                    <a:pt x="239" y="488"/>
                  </a:lnTo>
                  <a:lnTo>
                    <a:pt x="246" y="493"/>
                  </a:lnTo>
                  <a:lnTo>
                    <a:pt x="254" y="498"/>
                  </a:lnTo>
                  <a:lnTo>
                    <a:pt x="260" y="504"/>
                  </a:lnTo>
                  <a:lnTo>
                    <a:pt x="268" y="509"/>
                  </a:lnTo>
                  <a:lnTo>
                    <a:pt x="275" y="514"/>
                  </a:lnTo>
                  <a:lnTo>
                    <a:pt x="282" y="518"/>
                  </a:lnTo>
                  <a:lnTo>
                    <a:pt x="290" y="524"/>
                  </a:lnTo>
                  <a:lnTo>
                    <a:pt x="298" y="528"/>
                  </a:lnTo>
                  <a:lnTo>
                    <a:pt x="304" y="533"/>
                  </a:lnTo>
                  <a:lnTo>
                    <a:pt x="312" y="537"/>
                  </a:lnTo>
                  <a:lnTo>
                    <a:pt x="320" y="541"/>
                  </a:lnTo>
                  <a:lnTo>
                    <a:pt x="328" y="546"/>
                  </a:lnTo>
                  <a:lnTo>
                    <a:pt x="336" y="549"/>
                  </a:lnTo>
                  <a:lnTo>
                    <a:pt x="343" y="553"/>
                  </a:lnTo>
                  <a:lnTo>
                    <a:pt x="352" y="557"/>
                  </a:lnTo>
                  <a:lnTo>
                    <a:pt x="360" y="561"/>
                  </a:lnTo>
                  <a:lnTo>
                    <a:pt x="368" y="565"/>
                  </a:lnTo>
                  <a:lnTo>
                    <a:pt x="376" y="568"/>
                  </a:lnTo>
                  <a:lnTo>
                    <a:pt x="384" y="572"/>
                  </a:lnTo>
                  <a:lnTo>
                    <a:pt x="392" y="574"/>
                  </a:lnTo>
                  <a:lnTo>
                    <a:pt x="401" y="578"/>
                  </a:lnTo>
                  <a:lnTo>
                    <a:pt x="409" y="581"/>
                  </a:lnTo>
                  <a:lnTo>
                    <a:pt x="417" y="584"/>
                  </a:lnTo>
                  <a:lnTo>
                    <a:pt x="427" y="587"/>
                  </a:lnTo>
                  <a:lnTo>
                    <a:pt x="435" y="589"/>
                  </a:lnTo>
                  <a:lnTo>
                    <a:pt x="443" y="592"/>
                  </a:lnTo>
                  <a:lnTo>
                    <a:pt x="452" y="594"/>
                  </a:lnTo>
                  <a:lnTo>
                    <a:pt x="460" y="596"/>
                  </a:lnTo>
                  <a:lnTo>
                    <a:pt x="469" y="599"/>
                  </a:lnTo>
                  <a:lnTo>
                    <a:pt x="477" y="601"/>
                  </a:lnTo>
                  <a:lnTo>
                    <a:pt x="487" y="603"/>
                  </a:lnTo>
                  <a:lnTo>
                    <a:pt x="496" y="605"/>
                  </a:lnTo>
                  <a:lnTo>
                    <a:pt x="505" y="606"/>
                  </a:lnTo>
                  <a:lnTo>
                    <a:pt x="514" y="608"/>
                  </a:lnTo>
                  <a:lnTo>
                    <a:pt x="523" y="609"/>
                  </a:lnTo>
                  <a:lnTo>
                    <a:pt x="532" y="610"/>
                  </a:lnTo>
                  <a:lnTo>
                    <a:pt x="541" y="612"/>
                  </a:lnTo>
                  <a:lnTo>
                    <a:pt x="551" y="613"/>
                  </a:lnTo>
                  <a:lnTo>
                    <a:pt x="560" y="614"/>
                  </a:lnTo>
                  <a:lnTo>
                    <a:pt x="569" y="614"/>
                  </a:lnTo>
                  <a:lnTo>
                    <a:pt x="578" y="616"/>
                  </a:lnTo>
                  <a:lnTo>
                    <a:pt x="587" y="616"/>
                  </a:lnTo>
                  <a:lnTo>
                    <a:pt x="596" y="616"/>
                  </a:lnTo>
                  <a:lnTo>
                    <a:pt x="606" y="617"/>
                  </a:lnTo>
                  <a:lnTo>
                    <a:pt x="616" y="617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1720" y="5923800"/>
              <a:ext cx="522000" cy="2322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0" y="204"/>
                  </a:moveTo>
                  <a:lnTo>
                    <a:pt x="10" y="204"/>
                  </a:lnTo>
                  <a:lnTo>
                    <a:pt x="20" y="203"/>
                  </a:lnTo>
                  <a:lnTo>
                    <a:pt x="30" y="203"/>
                  </a:lnTo>
                  <a:lnTo>
                    <a:pt x="41" y="202"/>
                  </a:lnTo>
                  <a:lnTo>
                    <a:pt x="50" y="201"/>
                  </a:lnTo>
                  <a:lnTo>
                    <a:pt x="60" y="201"/>
                  </a:lnTo>
                  <a:lnTo>
                    <a:pt x="71" y="200"/>
                  </a:lnTo>
                  <a:lnTo>
                    <a:pt x="81" y="198"/>
                  </a:lnTo>
                  <a:lnTo>
                    <a:pt x="90" y="197"/>
                  </a:lnTo>
                  <a:lnTo>
                    <a:pt x="101" y="195"/>
                  </a:lnTo>
                  <a:lnTo>
                    <a:pt x="110" y="194"/>
                  </a:lnTo>
                  <a:lnTo>
                    <a:pt x="120" y="192"/>
                  </a:lnTo>
                  <a:lnTo>
                    <a:pt x="130" y="190"/>
                  </a:lnTo>
                  <a:lnTo>
                    <a:pt x="140" y="188"/>
                  </a:lnTo>
                  <a:lnTo>
                    <a:pt x="149" y="185"/>
                  </a:lnTo>
                  <a:lnTo>
                    <a:pt x="158" y="183"/>
                  </a:lnTo>
                  <a:lnTo>
                    <a:pt x="168" y="180"/>
                  </a:lnTo>
                  <a:lnTo>
                    <a:pt x="177" y="177"/>
                  </a:lnTo>
                  <a:lnTo>
                    <a:pt x="186" y="175"/>
                  </a:lnTo>
                  <a:lnTo>
                    <a:pt x="195" y="172"/>
                  </a:lnTo>
                  <a:lnTo>
                    <a:pt x="205" y="168"/>
                  </a:lnTo>
                  <a:lnTo>
                    <a:pt x="214" y="165"/>
                  </a:lnTo>
                  <a:lnTo>
                    <a:pt x="223" y="161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0" y="150"/>
                  </a:lnTo>
                  <a:lnTo>
                    <a:pt x="258" y="147"/>
                  </a:lnTo>
                  <a:lnTo>
                    <a:pt x="267" y="143"/>
                  </a:lnTo>
                  <a:lnTo>
                    <a:pt x="275" y="138"/>
                  </a:lnTo>
                  <a:lnTo>
                    <a:pt x="285" y="134"/>
                  </a:lnTo>
                  <a:lnTo>
                    <a:pt x="294" y="129"/>
                  </a:lnTo>
                  <a:lnTo>
                    <a:pt x="301" y="125"/>
                  </a:lnTo>
                  <a:lnTo>
                    <a:pt x="310" y="120"/>
                  </a:lnTo>
                  <a:lnTo>
                    <a:pt x="318" y="115"/>
                  </a:lnTo>
                  <a:lnTo>
                    <a:pt x="326" y="110"/>
                  </a:lnTo>
                  <a:lnTo>
                    <a:pt x="335" y="105"/>
                  </a:lnTo>
                  <a:lnTo>
                    <a:pt x="343" y="99"/>
                  </a:lnTo>
                  <a:lnTo>
                    <a:pt x="350" y="94"/>
                  </a:lnTo>
                  <a:lnTo>
                    <a:pt x="358" y="88"/>
                  </a:lnTo>
                  <a:lnTo>
                    <a:pt x="366" y="83"/>
                  </a:lnTo>
                  <a:lnTo>
                    <a:pt x="373" y="77"/>
                  </a:lnTo>
                  <a:lnTo>
                    <a:pt x="380" y="71"/>
                  </a:lnTo>
                  <a:lnTo>
                    <a:pt x="389" y="65"/>
                  </a:lnTo>
                  <a:lnTo>
                    <a:pt x="396" y="59"/>
                  </a:lnTo>
                  <a:lnTo>
                    <a:pt x="403" y="53"/>
                  </a:lnTo>
                  <a:lnTo>
                    <a:pt x="410" y="47"/>
                  </a:lnTo>
                  <a:lnTo>
                    <a:pt x="418" y="40"/>
                  </a:lnTo>
                  <a:lnTo>
                    <a:pt x="424" y="35"/>
                  </a:lnTo>
                  <a:lnTo>
                    <a:pt x="431" y="28"/>
                  </a:lnTo>
                  <a:lnTo>
                    <a:pt x="438" y="20"/>
                  </a:lnTo>
                  <a:lnTo>
                    <a:pt x="444" y="13"/>
                  </a:lnTo>
                  <a:lnTo>
                    <a:pt x="451" y="7"/>
                  </a:lnTo>
                  <a:lnTo>
                    <a:pt x="458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633720" y="5922360"/>
              <a:ext cx="0" cy="108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33720" y="5822280"/>
              <a:ext cx="403200" cy="100080"/>
            </a:xfrm>
            <a:custGeom>
              <a:avLst/>
              <a:gdLst/>
              <a:ahLst/>
              <a:rect l="l" t="t" r="r" b="b"/>
              <a:pathLst>
                <a:path w="354" h="88">
                  <a:moveTo>
                    <a:pt x="0" y="88"/>
                  </a:moveTo>
                  <a:lnTo>
                    <a:pt x="0" y="88"/>
                  </a:lnTo>
                  <a:lnTo>
                    <a:pt x="1" y="87"/>
                  </a:lnTo>
                  <a:lnTo>
                    <a:pt x="2" y="86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3" y="76"/>
                  </a:lnTo>
                  <a:lnTo>
                    <a:pt x="16" y="73"/>
                  </a:lnTo>
                  <a:lnTo>
                    <a:pt x="20" y="70"/>
                  </a:lnTo>
                  <a:lnTo>
                    <a:pt x="23" y="67"/>
                  </a:lnTo>
                  <a:lnTo>
                    <a:pt x="28" y="63"/>
                  </a:lnTo>
                  <a:lnTo>
                    <a:pt x="32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7" y="49"/>
                  </a:lnTo>
                  <a:lnTo>
                    <a:pt x="53" y="45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2" y="33"/>
                  </a:lnTo>
                  <a:lnTo>
                    <a:pt x="78" y="29"/>
                  </a:lnTo>
                  <a:lnTo>
                    <a:pt x="86" y="26"/>
                  </a:lnTo>
                  <a:lnTo>
                    <a:pt x="93" y="22"/>
                  </a:lnTo>
                  <a:lnTo>
                    <a:pt x="101" y="19"/>
                  </a:lnTo>
                  <a:lnTo>
                    <a:pt x="109" y="16"/>
                  </a:lnTo>
                  <a:lnTo>
                    <a:pt x="117" y="13"/>
                  </a:lnTo>
                  <a:lnTo>
                    <a:pt x="124" y="10"/>
                  </a:lnTo>
                  <a:lnTo>
                    <a:pt x="133" y="8"/>
                  </a:lnTo>
                  <a:lnTo>
                    <a:pt x="142" y="5"/>
                  </a:lnTo>
                  <a:lnTo>
                    <a:pt x="150" y="4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7" y="2"/>
                  </a:lnTo>
                  <a:lnTo>
                    <a:pt x="226" y="3"/>
                  </a:lnTo>
                  <a:lnTo>
                    <a:pt x="237" y="5"/>
                  </a:lnTo>
                  <a:lnTo>
                    <a:pt x="247" y="8"/>
                  </a:lnTo>
                  <a:lnTo>
                    <a:pt x="257" y="12"/>
                  </a:lnTo>
                  <a:lnTo>
                    <a:pt x="268" y="16"/>
                  </a:lnTo>
                  <a:lnTo>
                    <a:pt x="278" y="20"/>
                  </a:lnTo>
                  <a:lnTo>
                    <a:pt x="289" y="24"/>
                  </a:lnTo>
                  <a:lnTo>
                    <a:pt x="299" y="31"/>
                  </a:lnTo>
                  <a:lnTo>
                    <a:pt x="310" y="37"/>
                  </a:lnTo>
                  <a:lnTo>
                    <a:pt x="322" y="45"/>
                  </a:lnTo>
                  <a:lnTo>
                    <a:pt x="332" y="53"/>
                  </a:lnTo>
                  <a:lnTo>
                    <a:pt x="343" y="62"/>
                  </a:lnTo>
                  <a:lnTo>
                    <a:pt x="354" y="72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37280" y="5904720"/>
              <a:ext cx="537840" cy="251640"/>
            </a:xfrm>
            <a:custGeom>
              <a:avLst/>
              <a:gdLst/>
              <a:ahLst/>
              <a:rect l="l" t="t" r="r" b="b"/>
              <a:pathLst>
                <a:path w="472" h="22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9" y="8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36" y="27"/>
                  </a:lnTo>
                  <a:lnTo>
                    <a:pt x="42" y="31"/>
                  </a:lnTo>
                  <a:lnTo>
                    <a:pt x="48" y="36"/>
                  </a:lnTo>
                  <a:lnTo>
                    <a:pt x="55" y="40"/>
                  </a:lnTo>
                  <a:lnTo>
                    <a:pt x="62" y="45"/>
                  </a:lnTo>
                  <a:lnTo>
                    <a:pt x="70" y="50"/>
                  </a:lnTo>
                  <a:lnTo>
                    <a:pt x="78" y="56"/>
                  </a:lnTo>
                  <a:lnTo>
                    <a:pt x="86" y="61"/>
                  </a:lnTo>
                  <a:lnTo>
                    <a:pt x="94" y="66"/>
                  </a:lnTo>
                  <a:lnTo>
                    <a:pt x="102" y="72"/>
                  </a:lnTo>
                  <a:lnTo>
                    <a:pt x="111" y="78"/>
                  </a:lnTo>
                  <a:lnTo>
                    <a:pt x="121" y="83"/>
                  </a:lnTo>
                  <a:lnTo>
                    <a:pt x="130" y="89"/>
                  </a:lnTo>
                  <a:lnTo>
                    <a:pt x="140" y="95"/>
                  </a:lnTo>
                  <a:lnTo>
                    <a:pt x="150" y="101"/>
                  </a:lnTo>
                  <a:lnTo>
                    <a:pt x="160" y="108"/>
                  </a:lnTo>
                  <a:lnTo>
                    <a:pt x="170" y="113"/>
                  </a:lnTo>
                  <a:lnTo>
                    <a:pt x="181" y="120"/>
                  </a:lnTo>
                  <a:lnTo>
                    <a:pt x="191" y="125"/>
                  </a:lnTo>
                  <a:lnTo>
                    <a:pt x="202" y="130"/>
                  </a:lnTo>
                  <a:lnTo>
                    <a:pt x="214" y="137"/>
                  </a:lnTo>
                  <a:lnTo>
                    <a:pt x="225" y="143"/>
                  </a:lnTo>
                  <a:lnTo>
                    <a:pt x="235" y="149"/>
                  </a:lnTo>
                  <a:lnTo>
                    <a:pt x="247" y="154"/>
                  </a:lnTo>
                  <a:lnTo>
                    <a:pt x="258" y="160"/>
                  </a:lnTo>
                  <a:lnTo>
                    <a:pt x="270" y="165"/>
                  </a:lnTo>
                  <a:lnTo>
                    <a:pt x="282" y="170"/>
                  </a:lnTo>
                  <a:lnTo>
                    <a:pt x="293" y="176"/>
                  </a:lnTo>
                  <a:lnTo>
                    <a:pt x="304" y="180"/>
                  </a:lnTo>
                  <a:lnTo>
                    <a:pt x="316" y="184"/>
                  </a:lnTo>
                  <a:lnTo>
                    <a:pt x="327" y="190"/>
                  </a:lnTo>
                  <a:lnTo>
                    <a:pt x="339" y="193"/>
                  </a:lnTo>
                  <a:lnTo>
                    <a:pt x="350" y="197"/>
                  </a:lnTo>
                  <a:lnTo>
                    <a:pt x="362" y="201"/>
                  </a:lnTo>
                  <a:lnTo>
                    <a:pt x="374" y="205"/>
                  </a:lnTo>
                  <a:lnTo>
                    <a:pt x="385" y="208"/>
                  </a:lnTo>
                  <a:lnTo>
                    <a:pt x="396" y="211"/>
                  </a:lnTo>
                  <a:lnTo>
                    <a:pt x="408" y="213"/>
                  </a:lnTo>
                  <a:lnTo>
                    <a:pt x="419" y="215"/>
                  </a:lnTo>
                  <a:lnTo>
                    <a:pt x="430" y="217"/>
                  </a:lnTo>
                  <a:lnTo>
                    <a:pt x="441" y="218"/>
                  </a:lnTo>
                  <a:lnTo>
                    <a:pt x="451" y="220"/>
                  </a:lnTo>
                  <a:lnTo>
                    <a:pt x="462" y="220"/>
                  </a:lnTo>
                  <a:lnTo>
                    <a:pt x="472" y="221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7512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617"/>
                  </a:moveTo>
                  <a:lnTo>
                    <a:pt x="9" y="617"/>
                  </a:lnTo>
                  <a:lnTo>
                    <a:pt x="19" y="616"/>
                  </a:lnTo>
                  <a:lnTo>
                    <a:pt x="29" y="616"/>
                  </a:lnTo>
                  <a:lnTo>
                    <a:pt x="39" y="616"/>
                  </a:lnTo>
                  <a:lnTo>
                    <a:pt x="47" y="614"/>
                  </a:lnTo>
                  <a:lnTo>
                    <a:pt x="56" y="614"/>
                  </a:lnTo>
                  <a:lnTo>
                    <a:pt x="65" y="613"/>
                  </a:lnTo>
                  <a:lnTo>
                    <a:pt x="75" y="612"/>
                  </a:lnTo>
                  <a:lnTo>
                    <a:pt x="84" y="610"/>
                  </a:lnTo>
                  <a:lnTo>
                    <a:pt x="93" y="609"/>
                  </a:lnTo>
                  <a:lnTo>
                    <a:pt x="101" y="608"/>
                  </a:lnTo>
                  <a:lnTo>
                    <a:pt x="112" y="606"/>
                  </a:lnTo>
                  <a:lnTo>
                    <a:pt x="121" y="605"/>
                  </a:lnTo>
                  <a:lnTo>
                    <a:pt x="129" y="603"/>
                  </a:lnTo>
                  <a:lnTo>
                    <a:pt x="138" y="601"/>
                  </a:lnTo>
                  <a:lnTo>
                    <a:pt x="147" y="599"/>
                  </a:lnTo>
                  <a:lnTo>
                    <a:pt x="156" y="596"/>
                  </a:lnTo>
                  <a:lnTo>
                    <a:pt x="164" y="594"/>
                  </a:lnTo>
                  <a:lnTo>
                    <a:pt x="173" y="592"/>
                  </a:lnTo>
                  <a:lnTo>
                    <a:pt x="181" y="589"/>
                  </a:lnTo>
                  <a:lnTo>
                    <a:pt x="190" y="587"/>
                  </a:lnTo>
                  <a:lnTo>
                    <a:pt x="199" y="584"/>
                  </a:lnTo>
                  <a:lnTo>
                    <a:pt x="206" y="581"/>
                  </a:lnTo>
                  <a:lnTo>
                    <a:pt x="216" y="578"/>
                  </a:lnTo>
                  <a:lnTo>
                    <a:pt x="224" y="574"/>
                  </a:lnTo>
                  <a:lnTo>
                    <a:pt x="232" y="572"/>
                  </a:lnTo>
                  <a:lnTo>
                    <a:pt x="240" y="568"/>
                  </a:lnTo>
                  <a:lnTo>
                    <a:pt x="248" y="565"/>
                  </a:lnTo>
                  <a:lnTo>
                    <a:pt x="257" y="561"/>
                  </a:lnTo>
                  <a:lnTo>
                    <a:pt x="265" y="557"/>
                  </a:lnTo>
                  <a:lnTo>
                    <a:pt x="272" y="553"/>
                  </a:lnTo>
                  <a:lnTo>
                    <a:pt x="281" y="549"/>
                  </a:lnTo>
                  <a:lnTo>
                    <a:pt x="288" y="546"/>
                  </a:lnTo>
                  <a:lnTo>
                    <a:pt x="296" y="541"/>
                  </a:lnTo>
                  <a:lnTo>
                    <a:pt x="304" y="537"/>
                  </a:lnTo>
                  <a:lnTo>
                    <a:pt x="312" y="533"/>
                  </a:lnTo>
                  <a:lnTo>
                    <a:pt x="319" y="528"/>
                  </a:lnTo>
                  <a:lnTo>
                    <a:pt x="327" y="524"/>
                  </a:lnTo>
                  <a:lnTo>
                    <a:pt x="334" y="518"/>
                  </a:lnTo>
                  <a:lnTo>
                    <a:pt x="342" y="514"/>
                  </a:lnTo>
                  <a:lnTo>
                    <a:pt x="349" y="509"/>
                  </a:lnTo>
                  <a:lnTo>
                    <a:pt x="356" y="504"/>
                  </a:lnTo>
                  <a:lnTo>
                    <a:pt x="363" y="498"/>
                  </a:lnTo>
                  <a:lnTo>
                    <a:pt x="370" y="493"/>
                  </a:lnTo>
                  <a:lnTo>
                    <a:pt x="377" y="488"/>
                  </a:lnTo>
                  <a:lnTo>
                    <a:pt x="384" y="482"/>
                  </a:lnTo>
                  <a:lnTo>
                    <a:pt x="391" y="477"/>
                  </a:lnTo>
                  <a:lnTo>
                    <a:pt x="397" y="472"/>
                  </a:lnTo>
                  <a:lnTo>
                    <a:pt x="403" y="466"/>
                  </a:lnTo>
                  <a:lnTo>
                    <a:pt x="410" y="460"/>
                  </a:lnTo>
                  <a:lnTo>
                    <a:pt x="417" y="454"/>
                  </a:lnTo>
                  <a:lnTo>
                    <a:pt x="423" y="448"/>
                  </a:lnTo>
                  <a:lnTo>
                    <a:pt x="430" y="442"/>
                  </a:lnTo>
                  <a:lnTo>
                    <a:pt x="437" y="436"/>
                  </a:lnTo>
                  <a:lnTo>
                    <a:pt x="442" y="429"/>
                  </a:lnTo>
                  <a:lnTo>
                    <a:pt x="449" y="423"/>
                  </a:lnTo>
                  <a:lnTo>
                    <a:pt x="454" y="417"/>
                  </a:lnTo>
                  <a:lnTo>
                    <a:pt x="461" y="410"/>
                  </a:lnTo>
                  <a:lnTo>
                    <a:pt x="466" y="404"/>
                  </a:lnTo>
                  <a:lnTo>
                    <a:pt x="471" y="397"/>
                  </a:lnTo>
                  <a:lnTo>
                    <a:pt x="477" y="391"/>
                  </a:lnTo>
                  <a:lnTo>
                    <a:pt x="483" y="383"/>
                  </a:lnTo>
                  <a:lnTo>
                    <a:pt x="489" y="377"/>
                  </a:lnTo>
                  <a:lnTo>
                    <a:pt x="494" y="369"/>
                  </a:lnTo>
                  <a:lnTo>
                    <a:pt x="499" y="363"/>
                  </a:lnTo>
                  <a:lnTo>
                    <a:pt x="503" y="355"/>
                  </a:lnTo>
                  <a:lnTo>
                    <a:pt x="509" y="348"/>
                  </a:lnTo>
                  <a:lnTo>
                    <a:pt x="514" y="341"/>
                  </a:lnTo>
                  <a:lnTo>
                    <a:pt x="519" y="334"/>
                  </a:lnTo>
                  <a:lnTo>
                    <a:pt x="523" y="327"/>
                  </a:lnTo>
                  <a:lnTo>
                    <a:pt x="527" y="319"/>
                  </a:lnTo>
                  <a:lnTo>
                    <a:pt x="532" y="312"/>
                  </a:lnTo>
                  <a:lnTo>
                    <a:pt x="537" y="304"/>
                  </a:lnTo>
                  <a:lnTo>
                    <a:pt x="541" y="296"/>
                  </a:lnTo>
                  <a:lnTo>
                    <a:pt x="545" y="288"/>
                  </a:lnTo>
                  <a:lnTo>
                    <a:pt x="550" y="280"/>
                  </a:lnTo>
                  <a:lnTo>
                    <a:pt x="553" y="272"/>
                  </a:lnTo>
                  <a:lnTo>
                    <a:pt x="557" y="265"/>
                  </a:lnTo>
                  <a:lnTo>
                    <a:pt x="561" y="256"/>
                  </a:lnTo>
                  <a:lnTo>
                    <a:pt x="564" y="249"/>
                  </a:lnTo>
                  <a:lnTo>
                    <a:pt x="568" y="240"/>
                  </a:lnTo>
                  <a:lnTo>
                    <a:pt x="571" y="232"/>
                  </a:lnTo>
                  <a:lnTo>
                    <a:pt x="575" y="224"/>
                  </a:lnTo>
                  <a:lnTo>
                    <a:pt x="578" y="215"/>
                  </a:lnTo>
                  <a:lnTo>
                    <a:pt x="581" y="207"/>
                  </a:lnTo>
                  <a:lnTo>
                    <a:pt x="584" y="198"/>
                  </a:lnTo>
                  <a:lnTo>
                    <a:pt x="587" y="190"/>
                  </a:lnTo>
                  <a:lnTo>
                    <a:pt x="590" y="181"/>
                  </a:lnTo>
                  <a:lnTo>
                    <a:pt x="592" y="172"/>
                  </a:lnTo>
                  <a:lnTo>
                    <a:pt x="594" y="164"/>
                  </a:lnTo>
                  <a:lnTo>
                    <a:pt x="597" y="155"/>
                  </a:lnTo>
                  <a:lnTo>
                    <a:pt x="599" y="147"/>
                  </a:lnTo>
                  <a:lnTo>
                    <a:pt x="601" y="138"/>
                  </a:lnTo>
                  <a:lnTo>
                    <a:pt x="603" y="130"/>
                  </a:lnTo>
                  <a:lnTo>
                    <a:pt x="606" y="120"/>
                  </a:lnTo>
                  <a:lnTo>
                    <a:pt x="607" y="111"/>
                  </a:lnTo>
                  <a:lnTo>
                    <a:pt x="608" y="102"/>
                  </a:lnTo>
                  <a:lnTo>
                    <a:pt x="610" y="92"/>
                  </a:lnTo>
                  <a:lnTo>
                    <a:pt x="611" y="84"/>
                  </a:lnTo>
                  <a:lnTo>
                    <a:pt x="612" y="75"/>
                  </a:lnTo>
                  <a:lnTo>
                    <a:pt x="613" y="66"/>
                  </a:lnTo>
                  <a:lnTo>
                    <a:pt x="614" y="56"/>
                  </a:lnTo>
                  <a:lnTo>
                    <a:pt x="615" y="47"/>
                  </a:lnTo>
                  <a:lnTo>
                    <a:pt x="615" y="38"/>
                  </a:lnTo>
                  <a:lnTo>
                    <a:pt x="616" y="28"/>
                  </a:lnTo>
                  <a:lnTo>
                    <a:pt x="616" y="19"/>
                  </a:lnTo>
                  <a:lnTo>
                    <a:pt x="616" y="10"/>
                  </a:lnTo>
                  <a:lnTo>
                    <a:pt x="616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7512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616"/>
                  </a:moveTo>
                  <a:lnTo>
                    <a:pt x="616" y="607"/>
                  </a:lnTo>
                  <a:lnTo>
                    <a:pt x="616" y="598"/>
                  </a:lnTo>
                  <a:lnTo>
                    <a:pt x="616" y="588"/>
                  </a:lnTo>
                  <a:lnTo>
                    <a:pt x="615" y="579"/>
                  </a:lnTo>
                  <a:lnTo>
                    <a:pt x="615" y="570"/>
                  </a:lnTo>
                  <a:lnTo>
                    <a:pt x="614" y="560"/>
                  </a:lnTo>
                  <a:lnTo>
                    <a:pt x="613" y="551"/>
                  </a:lnTo>
                  <a:lnTo>
                    <a:pt x="612" y="542"/>
                  </a:lnTo>
                  <a:lnTo>
                    <a:pt x="611" y="533"/>
                  </a:lnTo>
                  <a:lnTo>
                    <a:pt x="610" y="523"/>
                  </a:lnTo>
                  <a:lnTo>
                    <a:pt x="608" y="515"/>
                  </a:lnTo>
                  <a:lnTo>
                    <a:pt x="607" y="506"/>
                  </a:lnTo>
                  <a:lnTo>
                    <a:pt x="606" y="496"/>
                  </a:lnTo>
                  <a:lnTo>
                    <a:pt x="603" y="488"/>
                  </a:lnTo>
                  <a:lnTo>
                    <a:pt x="601" y="479"/>
                  </a:lnTo>
                  <a:lnTo>
                    <a:pt x="599" y="470"/>
                  </a:lnTo>
                  <a:lnTo>
                    <a:pt x="597" y="461"/>
                  </a:lnTo>
                  <a:lnTo>
                    <a:pt x="594" y="453"/>
                  </a:lnTo>
                  <a:lnTo>
                    <a:pt x="592" y="443"/>
                  </a:lnTo>
                  <a:lnTo>
                    <a:pt x="590" y="435"/>
                  </a:lnTo>
                  <a:lnTo>
                    <a:pt x="587" y="427"/>
                  </a:lnTo>
                  <a:lnTo>
                    <a:pt x="584" y="418"/>
                  </a:lnTo>
                  <a:lnTo>
                    <a:pt x="581" y="410"/>
                  </a:lnTo>
                  <a:lnTo>
                    <a:pt x="578" y="401"/>
                  </a:lnTo>
                  <a:lnTo>
                    <a:pt x="575" y="393"/>
                  </a:lnTo>
                  <a:lnTo>
                    <a:pt x="571" y="385"/>
                  </a:lnTo>
                  <a:lnTo>
                    <a:pt x="568" y="377"/>
                  </a:lnTo>
                  <a:lnTo>
                    <a:pt x="564" y="369"/>
                  </a:lnTo>
                  <a:lnTo>
                    <a:pt x="561" y="361"/>
                  </a:lnTo>
                  <a:lnTo>
                    <a:pt x="557" y="352"/>
                  </a:lnTo>
                  <a:lnTo>
                    <a:pt x="553" y="345"/>
                  </a:lnTo>
                  <a:lnTo>
                    <a:pt x="550" y="336"/>
                  </a:lnTo>
                  <a:lnTo>
                    <a:pt x="545" y="329"/>
                  </a:lnTo>
                  <a:lnTo>
                    <a:pt x="541" y="321"/>
                  </a:lnTo>
                  <a:lnTo>
                    <a:pt x="537" y="313"/>
                  </a:lnTo>
                  <a:lnTo>
                    <a:pt x="532" y="305"/>
                  </a:lnTo>
                  <a:lnTo>
                    <a:pt x="527" y="298"/>
                  </a:lnTo>
                  <a:lnTo>
                    <a:pt x="523" y="290"/>
                  </a:lnTo>
                  <a:lnTo>
                    <a:pt x="519" y="282"/>
                  </a:lnTo>
                  <a:lnTo>
                    <a:pt x="514" y="275"/>
                  </a:lnTo>
                  <a:lnTo>
                    <a:pt x="509" y="268"/>
                  </a:lnTo>
                  <a:lnTo>
                    <a:pt x="503" y="261"/>
                  </a:lnTo>
                  <a:lnTo>
                    <a:pt x="499" y="254"/>
                  </a:lnTo>
                  <a:lnTo>
                    <a:pt x="494" y="246"/>
                  </a:lnTo>
                  <a:lnTo>
                    <a:pt x="489" y="241"/>
                  </a:lnTo>
                  <a:lnTo>
                    <a:pt x="483" y="233"/>
                  </a:lnTo>
                  <a:lnTo>
                    <a:pt x="477" y="226"/>
                  </a:lnTo>
                  <a:lnTo>
                    <a:pt x="471" y="219"/>
                  </a:lnTo>
                  <a:lnTo>
                    <a:pt x="466" y="213"/>
                  </a:lnTo>
                  <a:lnTo>
                    <a:pt x="461" y="206"/>
                  </a:lnTo>
                  <a:lnTo>
                    <a:pt x="454" y="200"/>
                  </a:lnTo>
                  <a:lnTo>
                    <a:pt x="449" y="193"/>
                  </a:lnTo>
                  <a:lnTo>
                    <a:pt x="442" y="186"/>
                  </a:lnTo>
                  <a:lnTo>
                    <a:pt x="437" y="181"/>
                  </a:lnTo>
                  <a:lnTo>
                    <a:pt x="430" y="174"/>
                  </a:lnTo>
                  <a:lnTo>
                    <a:pt x="423" y="169"/>
                  </a:lnTo>
                  <a:lnTo>
                    <a:pt x="417" y="162"/>
                  </a:lnTo>
                  <a:lnTo>
                    <a:pt x="410" y="157"/>
                  </a:lnTo>
                  <a:lnTo>
                    <a:pt x="403" y="152"/>
                  </a:lnTo>
                  <a:lnTo>
                    <a:pt x="397" y="145"/>
                  </a:lnTo>
                  <a:lnTo>
                    <a:pt x="391" y="140"/>
                  </a:lnTo>
                  <a:lnTo>
                    <a:pt x="384" y="134"/>
                  </a:lnTo>
                  <a:lnTo>
                    <a:pt x="377" y="129"/>
                  </a:lnTo>
                  <a:lnTo>
                    <a:pt x="370" y="124"/>
                  </a:lnTo>
                  <a:lnTo>
                    <a:pt x="363" y="118"/>
                  </a:lnTo>
                  <a:lnTo>
                    <a:pt x="356" y="113"/>
                  </a:lnTo>
                  <a:lnTo>
                    <a:pt x="349" y="108"/>
                  </a:lnTo>
                  <a:lnTo>
                    <a:pt x="342" y="103"/>
                  </a:lnTo>
                  <a:lnTo>
                    <a:pt x="334" y="98"/>
                  </a:lnTo>
                  <a:lnTo>
                    <a:pt x="327" y="94"/>
                  </a:lnTo>
                  <a:lnTo>
                    <a:pt x="319" y="89"/>
                  </a:lnTo>
                  <a:lnTo>
                    <a:pt x="312" y="84"/>
                  </a:lnTo>
                  <a:lnTo>
                    <a:pt x="304" y="80"/>
                  </a:lnTo>
                  <a:lnTo>
                    <a:pt x="296" y="76"/>
                  </a:lnTo>
                  <a:lnTo>
                    <a:pt x="288" y="71"/>
                  </a:lnTo>
                  <a:lnTo>
                    <a:pt x="281" y="68"/>
                  </a:lnTo>
                  <a:lnTo>
                    <a:pt x="272" y="64"/>
                  </a:lnTo>
                  <a:lnTo>
                    <a:pt x="265" y="60"/>
                  </a:lnTo>
                  <a:lnTo>
                    <a:pt x="257" y="56"/>
                  </a:lnTo>
                  <a:lnTo>
                    <a:pt x="248" y="52"/>
                  </a:lnTo>
                  <a:lnTo>
                    <a:pt x="240" y="49"/>
                  </a:lnTo>
                  <a:lnTo>
                    <a:pt x="232" y="45"/>
                  </a:lnTo>
                  <a:lnTo>
                    <a:pt x="224" y="42"/>
                  </a:lnTo>
                  <a:lnTo>
                    <a:pt x="216" y="39"/>
                  </a:lnTo>
                  <a:lnTo>
                    <a:pt x="206" y="36"/>
                  </a:lnTo>
                  <a:lnTo>
                    <a:pt x="199" y="33"/>
                  </a:lnTo>
                  <a:lnTo>
                    <a:pt x="190" y="30"/>
                  </a:lnTo>
                  <a:lnTo>
                    <a:pt x="181" y="28"/>
                  </a:lnTo>
                  <a:lnTo>
                    <a:pt x="173" y="25"/>
                  </a:lnTo>
                  <a:lnTo>
                    <a:pt x="164" y="22"/>
                  </a:lnTo>
                  <a:lnTo>
                    <a:pt x="156" y="20"/>
                  </a:lnTo>
                  <a:lnTo>
                    <a:pt x="147" y="17"/>
                  </a:lnTo>
                  <a:lnTo>
                    <a:pt x="138" y="16"/>
                  </a:lnTo>
                  <a:lnTo>
                    <a:pt x="129" y="14"/>
                  </a:lnTo>
                  <a:lnTo>
                    <a:pt x="121" y="12"/>
                  </a:lnTo>
                  <a:lnTo>
                    <a:pt x="112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6"/>
                  </a:lnTo>
                  <a:lnTo>
                    <a:pt x="75" y="5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52040" y="4751280"/>
              <a:ext cx="523080" cy="234720"/>
            </a:xfrm>
            <a:custGeom>
              <a:avLst/>
              <a:gdLst/>
              <a:ahLst/>
              <a:rect l="l" t="t" r="r" b="b"/>
              <a:pathLst>
                <a:path w="459" h="206">
                  <a:moveTo>
                    <a:pt x="459" y="0"/>
                  </a:moveTo>
                  <a:lnTo>
                    <a:pt x="450" y="0"/>
                  </a:lnTo>
                  <a:lnTo>
                    <a:pt x="438" y="0"/>
                  </a:lnTo>
                  <a:lnTo>
                    <a:pt x="429" y="1"/>
                  </a:lnTo>
                  <a:lnTo>
                    <a:pt x="419" y="2"/>
                  </a:lnTo>
                  <a:lnTo>
                    <a:pt x="408" y="3"/>
                  </a:lnTo>
                  <a:lnTo>
                    <a:pt x="398" y="3"/>
                  </a:lnTo>
                  <a:lnTo>
                    <a:pt x="388" y="5"/>
                  </a:lnTo>
                  <a:lnTo>
                    <a:pt x="378" y="5"/>
                  </a:lnTo>
                  <a:lnTo>
                    <a:pt x="368" y="7"/>
                  </a:lnTo>
                  <a:lnTo>
                    <a:pt x="358" y="9"/>
                  </a:lnTo>
                  <a:lnTo>
                    <a:pt x="349" y="10"/>
                  </a:lnTo>
                  <a:lnTo>
                    <a:pt x="339" y="12"/>
                  </a:lnTo>
                  <a:lnTo>
                    <a:pt x="329" y="15"/>
                  </a:lnTo>
                  <a:lnTo>
                    <a:pt x="319" y="16"/>
                  </a:lnTo>
                  <a:lnTo>
                    <a:pt x="310" y="19"/>
                  </a:lnTo>
                  <a:lnTo>
                    <a:pt x="300" y="21"/>
                  </a:lnTo>
                  <a:lnTo>
                    <a:pt x="291" y="24"/>
                  </a:lnTo>
                  <a:lnTo>
                    <a:pt x="281" y="27"/>
                  </a:lnTo>
                  <a:lnTo>
                    <a:pt x="272" y="29"/>
                  </a:lnTo>
                  <a:lnTo>
                    <a:pt x="262" y="33"/>
                  </a:lnTo>
                  <a:lnTo>
                    <a:pt x="253" y="36"/>
                  </a:lnTo>
                  <a:lnTo>
                    <a:pt x="244" y="39"/>
                  </a:lnTo>
                  <a:lnTo>
                    <a:pt x="235" y="42"/>
                  </a:lnTo>
                  <a:lnTo>
                    <a:pt x="226" y="46"/>
                  </a:lnTo>
                  <a:lnTo>
                    <a:pt x="217" y="50"/>
                  </a:lnTo>
                  <a:lnTo>
                    <a:pt x="208" y="54"/>
                  </a:lnTo>
                  <a:lnTo>
                    <a:pt x="199" y="57"/>
                  </a:lnTo>
                  <a:lnTo>
                    <a:pt x="190" y="62"/>
                  </a:lnTo>
                  <a:lnTo>
                    <a:pt x="182" y="67"/>
                  </a:lnTo>
                  <a:lnTo>
                    <a:pt x="173" y="70"/>
                  </a:lnTo>
                  <a:lnTo>
                    <a:pt x="164" y="75"/>
                  </a:lnTo>
                  <a:lnTo>
                    <a:pt x="156" y="80"/>
                  </a:lnTo>
                  <a:lnTo>
                    <a:pt x="148" y="85"/>
                  </a:lnTo>
                  <a:lnTo>
                    <a:pt x="140" y="90"/>
                  </a:lnTo>
                  <a:lnTo>
                    <a:pt x="131" y="94"/>
                  </a:lnTo>
                  <a:lnTo>
                    <a:pt x="124" y="100"/>
                  </a:lnTo>
                  <a:lnTo>
                    <a:pt x="115" y="105"/>
                  </a:lnTo>
                  <a:lnTo>
                    <a:pt x="107" y="111"/>
                  </a:lnTo>
                  <a:lnTo>
                    <a:pt x="100" y="116"/>
                  </a:lnTo>
                  <a:lnTo>
                    <a:pt x="92" y="122"/>
                  </a:lnTo>
                  <a:lnTo>
                    <a:pt x="84" y="128"/>
                  </a:lnTo>
                  <a:lnTo>
                    <a:pt x="77" y="134"/>
                  </a:lnTo>
                  <a:lnTo>
                    <a:pt x="69" y="140"/>
                  </a:lnTo>
                  <a:lnTo>
                    <a:pt x="61" y="146"/>
                  </a:lnTo>
                  <a:lnTo>
                    <a:pt x="54" y="152"/>
                  </a:lnTo>
                  <a:lnTo>
                    <a:pt x="47" y="159"/>
                  </a:lnTo>
                  <a:lnTo>
                    <a:pt x="40" y="165"/>
                  </a:lnTo>
                  <a:lnTo>
                    <a:pt x="33" y="172"/>
                  </a:lnTo>
                  <a:lnTo>
                    <a:pt x="26" y="178"/>
                  </a:lnTo>
                  <a:lnTo>
                    <a:pt x="19" y="185"/>
                  </a:lnTo>
                  <a:lnTo>
                    <a:pt x="13" y="192"/>
                  </a:lnTo>
                  <a:lnTo>
                    <a:pt x="7" y="199"/>
                  </a:lnTo>
                  <a:lnTo>
                    <a:pt x="0" y="20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52040" y="4986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70640" y="4917600"/>
              <a:ext cx="1082160" cy="1083600"/>
            </a:xfrm>
            <a:custGeom>
              <a:avLst/>
              <a:gdLst/>
              <a:ahLst/>
              <a:rect l="l" t="t" r="r" b="b"/>
              <a:pathLst>
                <a:path w="950" h="951">
                  <a:moveTo>
                    <a:pt x="950" y="485"/>
                  </a:moveTo>
                  <a:cubicBezTo>
                    <a:pt x="950" y="485"/>
                    <a:pt x="950" y="485"/>
                    <a:pt x="950" y="485"/>
                  </a:cubicBezTo>
                  <a:cubicBezTo>
                    <a:pt x="949" y="494"/>
                    <a:pt x="949" y="494"/>
                    <a:pt x="949" y="494"/>
                  </a:cubicBezTo>
                  <a:cubicBezTo>
                    <a:pt x="949" y="504"/>
                    <a:pt x="949" y="504"/>
                    <a:pt x="949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7" y="522"/>
                    <a:pt x="947" y="522"/>
                    <a:pt x="947" y="522"/>
                  </a:cubicBezTo>
                  <a:cubicBezTo>
                    <a:pt x="946" y="532"/>
                    <a:pt x="946" y="532"/>
                    <a:pt x="946" y="532"/>
                  </a:cubicBezTo>
                  <a:cubicBezTo>
                    <a:pt x="946" y="541"/>
                    <a:pt x="946" y="541"/>
                    <a:pt x="946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3" y="559"/>
                    <a:pt x="943" y="559"/>
                    <a:pt x="943" y="559"/>
                  </a:cubicBezTo>
                  <a:cubicBezTo>
                    <a:pt x="941" y="568"/>
                    <a:pt x="941" y="568"/>
                    <a:pt x="941" y="568"/>
                  </a:cubicBezTo>
                  <a:cubicBezTo>
                    <a:pt x="939" y="577"/>
                    <a:pt x="939" y="577"/>
                    <a:pt x="939" y="577"/>
                  </a:cubicBezTo>
                  <a:cubicBezTo>
                    <a:pt x="937" y="586"/>
                    <a:pt x="937" y="586"/>
                    <a:pt x="937" y="586"/>
                  </a:cubicBezTo>
                  <a:cubicBezTo>
                    <a:pt x="935" y="594"/>
                    <a:pt x="935" y="594"/>
                    <a:pt x="935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0" y="613"/>
                    <a:pt x="930" y="613"/>
                    <a:pt x="930" y="613"/>
                  </a:cubicBezTo>
                  <a:cubicBezTo>
                    <a:pt x="927" y="621"/>
                    <a:pt x="927" y="621"/>
                    <a:pt x="927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1" y="637"/>
                    <a:pt x="921" y="637"/>
                    <a:pt x="921" y="637"/>
                  </a:cubicBezTo>
                  <a:cubicBezTo>
                    <a:pt x="918" y="646"/>
                    <a:pt x="918" y="646"/>
                    <a:pt x="918" y="646"/>
                  </a:cubicBezTo>
                  <a:cubicBezTo>
                    <a:pt x="915" y="654"/>
                    <a:pt x="915" y="654"/>
                    <a:pt x="915" y="654"/>
                  </a:cubicBezTo>
                  <a:cubicBezTo>
                    <a:pt x="911" y="663"/>
                    <a:pt x="911" y="663"/>
                    <a:pt x="911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0" y="686"/>
                    <a:pt x="900" y="686"/>
                    <a:pt x="900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8" y="710"/>
                    <a:pt x="888" y="710"/>
                    <a:pt x="888" y="710"/>
                  </a:cubicBezTo>
                  <a:cubicBezTo>
                    <a:pt x="883" y="718"/>
                    <a:pt x="883" y="718"/>
                    <a:pt x="883" y="718"/>
                  </a:cubicBezTo>
                  <a:cubicBezTo>
                    <a:pt x="879" y="726"/>
                    <a:pt x="879" y="726"/>
                    <a:pt x="879" y="726"/>
                  </a:cubicBezTo>
                  <a:cubicBezTo>
                    <a:pt x="874" y="733"/>
                    <a:pt x="874" y="733"/>
                    <a:pt x="874" y="733"/>
                  </a:cubicBezTo>
                  <a:cubicBezTo>
                    <a:pt x="869" y="741"/>
                    <a:pt x="869" y="741"/>
                    <a:pt x="869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59" y="755"/>
                    <a:pt x="859" y="755"/>
                    <a:pt x="859" y="755"/>
                  </a:cubicBezTo>
                  <a:cubicBezTo>
                    <a:pt x="854" y="762"/>
                    <a:pt x="854" y="762"/>
                    <a:pt x="854" y="762"/>
                  </a:cubicBezTo>
                  <a:cubicBezTo>
                    <a:pt x="849" y="769"/>
                    <a:pt x="849" y="769"/>
                    <a:pt x="849" y="769"/>
                  </a:cubicBezTo>
                  <a:cubicBezTo>
                    <a:pt x="843" y="775"/>
                    <a:pt x="843" y="775"/>
                    <a:pt x="843" y="775"/>
                  </a:cubicBezTo>
                  <a:cubicBezTo>
                    <a:pt x="837" y="782"/>
                    <a:pt x="837" y="782"/>
                    <a:pt x="837" y="782"/>
                  </a:cubicBezTo>
                  <a:cubicBezTo>
                    <a:pt x="832" y="789"/>
                    <a:pt x="832" y="789"/>
                    <a:pt x="832" y="789"/>
                  </a:cubicBezTo>
                  <a:cubicBezTo>
                    <a:pt x="825" y="796"/>
                    <a:pt x="825" y="796"/>
                    <a:pt x="825" y="796"/>
                  </a:cubicBezTo>
                  <a:cubicBezTo>
                    <a:pt x="820" y="802"/>
                    <a:pt x="820" y="802"/>
                    <a:pt x="820" y="802"/>
                  </a:cubicBezTo>
                  <a:cubicBezTo>
                    <a:pt x="814" y="809"/>
                    <a:pt x="814" y="809"/>
                    <a:pt x="814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1" y="821"/>
                    <a:pt x="801" y="821"/>
                    <a:pt x="801" y="821"/>
                  </a:cubicBezTo>
                  <a:cubicBezTo>
                    <a:pt x="795" y="827"/>
                    <a:pt x="795" y="827"/>
                    <a:pt x="795" y="827"/>
                  </a:cubicBezTo>
                  <a:cubicBezTo>
                    <a:pt x="789" y="833"/>
                    <a:pt x="789" y="833"/>
                    <a:pt x="789" y="833"/>
                  </a:cubicBezTo>
                  <a:cubicBezTo>
                    <a:pt x="782" y="838"/>
                    <a:pt x="782" y="838"/>
                    <a:pt x="782" y="838"/>
                  </a:cubicBezTo>
                  <a:cubicBezTo>
                    <a:pt x="775" y="844"/>
                    <a:pt x="775" y="844"/>
                    <a:pt x="775" y="844"/>
                  </a:cubicBezTo>
                  <a:cubicBezTo>
                    <a:pt x="768" y="850"/>
                    <a:pt x="768" y="850"/>
                    <a:pt x="768" y="850"/>
                  </a:cubicBezTo>
                  <a:cubicBezTo>
                    <a:pt x="761" y="855"/>
                    <a:pt x="761" y="855"/>
                    <a:pt x="761" y="855"/>
                  </a:cubicBezTo>
                  <a:cubicBezTo>
                    <a:pt x="754" y="860"/>
                    <a:pt x="754" y="860"/>
                    <a:pt x="754" y="860"/>
                  </a:cubicBezTo>
                  <a:cubicBezTo>
                    <a:pt x="747" y="866"/>
                    <a:pt x="747" y="866"/>
                    <a:pt x="747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7" y="884"/>
                    <a:pt x="717" y="884"/>
                    <a:pt x="717" y="884"/>
                  </a:cubicBezTo>
                  <a:cubicBezTo>
                    <a:pt x="710" y="889"/>
                    <a:pt x="710" y="889"/>
                    <a:pt x="710" y="889"/>
                  </a:cubicBezTo>
                  <a:cubicBezTo>
                    <a:pt x="701" y="893"/>
                    <a:pt x="701" y="893"/>
                    <a:pt x="701" y="893"/>
                  </a:cubicBezTo>
                  <a:cubicBezTo>
                    <a:pt x="694" y="897"/>
                    <a:pt x="694" y="897"/>
                    <a:pt x="694" y="897"/>
                  </a:cubicBezTo>
                  <a:cubicBezTo>
                    <a:pt x="686" y="902"/>
                    <a:pt x="686" y="902"/>
                    <a:pt x="686" y="902"/>
                  </a:cubicBezTo>
                  <a:cubicBezTo>
                    <a:pt x="678" y="906"/>
                    <a:pt x="678" y="906"/>
                    <a:pt x="678" y="906"/>
                  </a:cubicBezTo>
                  <a:cubicBezTo>
                    <a:pt x="670" y="909"/>
                    <a:pt x="670" y="909"/>
                    <a:pt x="670" y="909"/>
                  </a:cubicBezTo>
                  <a:cubicBezTo>
                    <a:pt x="662" y="912"/>
                    <a:pt x="662" y="912"/>
                    <a:pt x="662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5" y="919"/>
                    <a:pt x="645" y="919"/>
                    <a:pt x="645" y="919"/>
                  </a:cubicBezTo>
                  <a:cubicBezTo>
                    <a:pt x="637" y="922"/>
                    <a:pt x="637" y="922"/>
                    <a:pt x="637" y="922"/>
                  </a:cubicBezTo>
                  <a:cubicBezTo>
                    <a:pt x="628" y="925"/>
                    <a:pt x="628" y="925"/>
                    <a:pt x="628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1" y="931"/>
                    <a:pt x="611" y="931"/>
                    <a:pt x="611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3" y="935"/>
                    <a:pt x="593" y="935"/>
                    <a:pt x="593" y="935"/>
                  </a:cubicBezTo>
                  <a:cubicBezTo>
                    <a:pt x="585" y="938"/>
                    <a:pt x="585" y="938"/>
                    <a:pt x="585" y="938"/>
                  </a:cubicBezTo>
                  <a:cubicBezTo>
                    <a:pt x="576" y="940"/>
                    <a:pt x="576" y="940"/>
                    <a:pt x="576" y="940"/>
                  </a:cubicBezTo>
                  <a:cubicBezTo>
                    <a:pt x="567" y="942"/>
                    <a:pt x="567" y="942"/>
                    <a:pt x="567" y="942"/>
                  </a:cubicBezTo>
                  <a:cubicBezTo>
                    <a:pt x="558" y="943"/>
                    <a:pt x="558" y="943"/>
                    <a:pt x="558" y="943"/>
                  </a:cubicBezTo>
                  <a:cubicBezTo>
                    <a:pt x="549" y="944"/>
                    <a:pt x="549" y="944"/>
                    <a:pt x="549" y="944"/>
                  </a:cubicBezTo>
                  <a:cubicBezTo>
                    <a:pt x="540" y="946"/>
                    <a:pt x="540" y="946"/>
                    <a:pt x="540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3" y="950"/>
                    <a:pt x="503" y="950"/>
                    <a:pt x="503" y="950"/>
                  </a:cubicBezTo>
                  <a:cubicBezTo>
                    <a:pt x="494" y="951"/>
                    <a:pt x="494" y="951"/>
                    <a:pt x="494" y="951"/>
                  </a:cubicBezTo>
                  <a:cubicBezTo>
                    <a:pt x="484" y="951"/>
                    <a:pt x="484" y="951"/>
                    <a:pt x="484" y="951"/>
                  </a:cubicBezTo>
                  <a:cubicBezTo>
                    <a:pt x="475" y="951"/>
                    <a:pt x="475" y="951"/>
                    <a:pt x="475" y="951"/>
                  </a:cubicBezTo>
                  <a:cubicBezTo>
                    <a:pt x="465" y="951"/>
                    <a:pt x="465" y="951"/>
                    <a:pt x="465" y="951"/>
                  </a:cubicBezTo>
                  <a:cubicBezTo>
                    <a:pt x="455" y="951"/>
                    <a:pt x="455" y="951"/>
                    <a:pt x="455" y="951"/>
                  </a:cubicBezTo>
                  <a:cubicBezTo>
                    <a:pt x="446" y="950"/>
                    <a:pt x="446" y="950"/>
                    <a:pt x="446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8" y="948"/>
                    <a:pt x="428" y="948"/>
                    <a:pt x="428" y="948"/>
                  </a:cubicBezTo>
                  <a:cubicBezTo>
                    <a:pt x="419" y="947"/>
                    <a:pt x="419" y="947"/>
                    <a:pt x="419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0" y="944"/>
                    <a:pt x="400" y="944"/>
                    <a:pt x="400" y="944"/>
                  </a:cubicBezTo>
                  <a:cubicBezTo>
                    <a:pt x="391" y="943"/>
                    <a:pt x="391" y="943"/>
                    <a:pt x="391" y="943"/>
                  </a:cubicBezTo>
                  <a:cubicBezTo>
                    <a:pt x="382" y="942"/>
                    <a:pt x="382" y="942"/>
                    <a:pt x="382" y="942"/>
                  </a:cubicBezTo>
                  <a:cubicBezTo>
                    <a:pt x="373" y="940"/>
                    <a:pt x="373" y="940"/>
                    <a:pt x="373" y="940"/>
                  </a:cubicBezTo>
                  <a:cubicBezTo>
                    <a:pt x="364" y="938"/>
                    <a:pt x="364" y="938"/>
                    <a:pt x="364" y="938"/>
                  </a:cubicBezTo>
                  <a:cubicBezTo>
                    <a:pt x="356" y="935"/>
                    <a:pt x="356" y="935"/>
                    <a:pt x="356" y="935"/>
                  </a:cubicBezTo>
                  <a:cubicBezTo>
                    <a:pt x="347" y="934"/>
                    <a:pt x="347" y="934"/>
                    <a:pt x="347" y="934"/>
                  </a:cubicBezTo>
                  <a:cubicBezTo>
                    <a:pt x="338" y="931"/>
                    <a:pt x="338" y="931"/>
                    <a:pt x="338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1" y="925"/>
                    <a:pt x="321" y="925"/>
                    <a:pt x="321" y="925"/>
                  </a:cubicBezTo>
                  <a:cubicBezTo>
                    <a:pt x="312" y="922"/>
                    <a:pt x="312" y="922"/>
                    <a:pt x="312" y="922"/>
                  </a:cubicBezTo>
                  <a:cubicBezTo>
                    <a:pt x="304" y="919"/>
                    <a:pt x="304" y="919"/>
                    <a:pt x="304" y="919"/>
                  </a:cubicBezTo>
                  <a:cubicBezTo>
                    <a:pt x="296" y="916"/>
                    <a:pt x="296" y="916"/>
                    <a:pt x="296" y="916"/>
                  </a:cubicBezTo>
                  <a:cubicBezTo>
                    <a:pt x="288" y="912"/>
                    <a:pt x="288" y="912"/>
                    <a:pt x="288" y="912"/>
                  </a:cubicBezTo>
                  <a:cubicBezTo>
                    <a:pt x="279" y="909"/>
                    <a:pt x="279" y="909"/>
                    <a:pt x="279" y="909"/>
                  </a:cubicBezTo>
                  <a:cubicBezTo>
                    <a:pt x="271" y="906"/>
                    <a:pt x="271" y="906"/>
                    <a:pt x="271" y="906"/>
                  </a:cubicBezTo>
                  <a:cubicBezTo>
                    <a:pt x="263" y="902"/>
                    <a:pt x="263" y="902"/>
                    <a:pt x="263" y="902"/>
                  </a:cubicBezTo>
                  <a:cubicBezTo>
                    <a:pt x="255" y="897"/>
                    <a:pt x="255" y="897"/>
                    <a:pt x="255" y="897"/>
                  </a:cubicBezTo>
                  <a:cubicBezTo>
                    <a:pt x="247" y="893"/>
                    <a:pt x="247" y="893"/>
                    <a:pt x="247" y="893"/>
                  </a:cubicBezTo>
                  <a:cubicBezTo>
                    <a:pt x="239" y="889"/>
                    <a:pt x="239" y="889"/>
                    <a:pt x="239" y="889"/>
                  </a:cubicBezTo>
                  <a:cubicBezTo>
                    <a:pt x="232" y="884"/>
                    <a:pt x="232" y="884"/>
                    <a:pt x="232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8" y="875"/>
                    <a:pt x="218" y="875"/>
                    <a:pt x="218" y="875"/>
                  </a:cubicBezTo>
                  <a:cubicBezTo>
                    <a:pt x="210" y="870"/>
                    <a:pt x="210" y="870"/>
                    <a:pt x="210" y="870"/>
                  </a:cubicBezTo>
                  <a:cubicBezTo>
                    <a:pt x="202" y="866"/>
                    <a:pt x="202" y="866"/>
                    <a:pt x="202" y="866"/>
                  </a:cubicBezTo>
                  <a:cubicBezTo>
                    <a:pt x="195" y="860"/>
                    <a:pt x="195" y="860"/>
                    <a:pt x="195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1" y="850"/>
                    <a:pt x="181" y="850"/>
                    <a:pt x="181" y="850"/>
                  </a:cubicBezTo>
                  <a:cubicBezTo>
                    <a:pt x="174" y="844"/>
                    <a:pt x="174" y="844"/>
                    <a:pt x="174" y="844"/>
                  </a:cubicBezTo>
                  <a:cubicBezTo>
                    <a:pt x="167" y="838"/>
                    <a:pt x="167" y="838"/>
                    <a:pt x="167" y="838"/>
                  </a:cubicBezTo>
                  <a:cubicBezTo>
                    <a:pt x="161" y="833"/>
                    <a:pt x="161" y="833"/>
                    <a:pt x="161" y="833"/>
                  </a:cubicBezTo>
                  <a:cubicBezTo>
                    <a:pt x="154" y="827"/>
                    <a:pt x="154" y="827"/>
                    <a:pt x="154" y="827"/>
                  </a:cubicBezTo>
                  <a:cubicBezTo>
                    <a:pt x="148" y="821"/>
                    <a:pt x="148" y="821"/>
                    <a:pt x="148" y="821"/>
                  </a:cubicBezTo>
                  <a:cubicBezTo>
                    <a:pt x="141" y="815"/>
                    <a:pt x="141" y="815"/>
                    <a:pt x="141" y="815"/>
                  </a:cubicBezTo>
                  <a:cubicBezTo>
                    <a:pt x="135" y="809"/>
                    <a:pt x="135" y="809"/>
                    <a:pt x="135" y="809"/>
                  </a:cubicBezTo>
                  <a:cubicBezTo>
                    <a:pt x="129" y="802"/>
                    <a:pt x="129" y="802"/>
                    <a:pt x="129" y="802"/>
                  </a:cubicBezTo>
                  <a:cubicBezTo>
                    <a:pt x="124" y="796"/>
                    <a:pt x="124" y="796"/>
                    <a:pt x="124" y="796"/>
                  </a:cubicBezTo>
                  <a:cubicBezTo>
                    <a:pt x="117" y="789"/>
                    <a:pt x="117" y="789"/>
                    <a:pt x="117" y="789"/>
                  </a:cubicBezTo>
                  <a:cubicBezTo>
                    <a:pt x="112" y="782"/>
                    <a:pt x="112" y="782"/>
                    <a:pt x="112" y="782"/>
                  </a:cubicBezTo>
                  <a:cubicBezTo>
                    <a:pt x="106" y="775"/>
                    <a:pt x="106" y="775"/>
                    <a:pt x="106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5" y="762"/>
                    <a:pt x="95" y="762"/>
                    <a:pt x="95" y="762"/>
                  </a:cubicBezTo>
                  <a:cubicBezTo>
                    <a:pt x="90" y="755"/>
                    <a:pt x="90" y="755"/>
                    <a:pt x="90" y="755"/>
                  </a:cubicBezTo>
                  <a:cubicBezTo>
                    <a:pt x="85" y="747"/>
                    <a:pt x="85" y="747"/>
                    <a:pt x="85" y="747"/>
                  </a:cubicBezTo>
                  <a:cubicBezTo>
                    <a:pt x="80" y="741"/>
                    <a:pt x="80" y="741"/>
                    <a:pt x="80" y="741"/>
                  </a:cubicBezTo>
                  <a:cubicBezTo>
                    <a:pt x="75" y="733"/>
                    <a:pt x="75" y="733"/>
                    <a:pt x="75" y="733"/>
                  </a:cubicBezTo>
                  <a:cubicBezTo>
                    <a:pt x="70" y="726"/>
                    <a:pt x="70" y="726"/>
                    <a:pt x="70" y="726"/>
                  </a:cubicBezTo>
                  <a:cubicBezTo>
                    <a:pt x="66" y="718"/>
                    <a:pt x="66" y="718"/>
                    <a:pt x="66" y="718"/>
                  </a:cubicBezTo>
                  <a:cubicBezTo>
                    <a:pt x="61" y="710"/>
                    <a:pt x="61" y="710"/>
                    <a:pt x="61" y="710"/>
                  </a:cubicBezTo>
                  <a:cubicBezTo>
                    <a:pt x="57" y="703"/>
                    <a:pt x="57" y="703"/>
                    <a:pt x="57" y="703"/>
                  </a:cubicBezTo>
                  <a:cubicBezTo>
                    <a:pt x="53" y="695"/>
                    <a:pt x="53" y="695"/>
                    <a:pt x="53" y="695"/>
                  </a:cubicBezTo>
                  <a:cubicBezTo>
                    <a:pt x="49" y="686"/>
                    <a:pt x="49" y="686"/>
                    <a:pt x="49" y="686"/>
                  </a:cubicBezTo>
                  <a:cubicBezTo>
                    <a:pt x="45" y="679"/>
                    <a:pt x="45" y="679"/>
                    <a:pt x="45" y="679"/>
                  </a:cubicBezTo>
                  <a:cubicBezTo>
                    <a:pt x="41" y="670"/>
                    <a:pt x="41" y="670"/>
                    <a:pt x="41" y="670"/>
                  </a:cubicBezTo>
                  <a:cubicBezTo>
                    <a:pt x="38" y="663"/>
                    <a:pt x="38" y="663"/>
                    <a:pt x="38" y="663"/>
                  </a:cubicBezTo>
                  <a:cubicBezTo>
                    <a:pt x="34" y="654"/>
                    <a:pt x="34" y="654"/>
                    <a:pt x="34" y="654"/>
                  </a:cubicBezTo>
                  <a:cubicBezTo>
                    <a:pt x="31" y="646"/>
                    <a:pt x="31" y="646"/>
                    <a:pt x="31" y="646"/>
                  </a:cubicBezTo>
                  <a:cubicBezTo>
                    <a:pt x="28" y="637"/>
                    <a:pt x="28" y="637"/>
                    <a:pt x="28" y="637"/>
                  </a:cubicBezTo>
                  <a:cubicBezTo>
                    <a:pt x="25" y="629"/>
                    <a:pt x="25" y="629"/>
                    <a:pt x="25" y="629"/>
                  </a:cubicBezTo>
                  <a:cubicBezTo>
                    <a:pt x="22" y="621"/>
                    <a:pt x="22" y="621"/>
                    <a:pt x="22" y="621"/>
                  </a:cubicBezTo>
                  <a:cubicBezTo>
                    <a:pt x="19" y="613"/>
                    <a:pt x="19" y="613"/>
                    <a:pt x="19" y="613"/>
                  </a:cubicBezTo>
                  <a:cubicBezTo>
                    <a:pt x="17" y="603"/>
                    <a:pt x="17" y="603"/>
                    <a:pt x="17" y="603"/>
                  </a:cubicBezTo>
                  <a:cubicBezTo>
                    <a:pt x="14" y="594"/>
                    <a:pt x="14" y="594"/>
                    <a:pt x="14" y="594"/>
                  </a:cubicBezTo>
                  <a:cubicBezTo>
                    <a:pt x="12" y="586"/>
                    <a:pt x="12" y="586"/>
                    <a:pt x="12" y="586"/>
                  </a:cubicBezTo>
                  <a:cubicBezTo>
                    <a:pt x="10" y="577"/>
                    <a:pt x="10" y="577"/>
                    <a:pt x="10" y="577"/>
                  </a:cubicBezTo>
                  <a:cubicBezTo>
                    <a:pt x="8" y="568"/>
                    <a:pt x="8" y="568"/>
                    <a:pt x="8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5" y="550"/>
                    <a:pt x="5" y="550"/>
                    <a:pt x="5" y="550"/>
                  </a:cubicBezTo>
                  <a:cubicBezTo>
                    <a:pt x="4" y="541"/>
                    <a:pt x="4" y="541"/>
                    <a:pt x="4" y="541"/>
                  </a:cubicBezTo>
                  <a:cubicBezTo>
                    <a:pt x="3" y="532"/>
                    <a:pt x="3" y="532"/>
                    <a:pt x="3" y="532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1" y="513"/>
                    <a:pt x="1" y="513"/>
                    <a:pt x="1" y="513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494"/>
                    <a:pt x="0" y="494"/>
                    <a:pt x="0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0" y="456"/>
                    <a:pt x="0" y="456"/>
                    <a:pt x="0" y="456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1" y="438"/>
                    <a:pt x="1" y="438"/>
                    <a:pt x="1" y="438"/>
                  </a:cubicBezTo>
                  <a:cubicBezTo>
                    <a:pt x="1" y="429"/>
                    <a:pt x="1" y="429"/>
                    <a:pt x="1" y="429"/>
                  </a:cubicBezTo>
                  <a:cubicBezTo>
                    <a:pt x="3" y="420"/>
                    <a:pt x="3" y="420"/>
                    <a:pt x="3" y="420"/>
                  </a:cubicBezTo>
                  <a:cubicBezTo>
                    <a:pt x="4" y="410"/>
                    <a:pt x="4" y="410"/>
                    <a:pt x="4" y="410"/>
                  </a:cubicBezTo>
                  <a:cubicBezTo>
                    <a:pt x="5" y="401"/>
                    <a:pt x="5" y="401"/>
                    <a:pt x="5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8" y="384"/>
                    <a:pt x="8" y="384"/>
                    <a:pt x="8" y="384"/>
                  </a:cubicBezTo>
                  <a:cubicBezTo>
                    <a:pt x="10" y="374"/>
                    <a:pt x="10" y="374"/>
                    <a:pt x="10" y="374"/>
                  </a:cubicBezTo>
                  <a:cubicBezTo>
                    <a:pt x="12" y="365"/>
                    <a:pt x="12" y="365"/>
                    <a:pt x="12" y="365"/>
                  </a:cubicBezTo>
                  <a:cubicBezTo>
                    <a:pt x="14" y="356"/>
                    <a:pt x="14" y="356"/>
                    <a:pt x="14" y="356"/>
                  </a:cubicBezTo>
                  <a:cubicBezTo>
                    <a:pt x="17" y="348"/>
                    <a:pt x="17" y="348"/>
                    <a:pt x="17" y="348"/>
                  </a:cubicBezTo>
                  <a:cubicBezTo>
                    <a:pt x="19" y="339"/>
                    <a:pt x="19" y="339"/>
                    <a:pt x="19" y="339"/>
                  </a:cubicBezTo>
                  <a:cubicBezTo>
                    <a:pt x="22" y="331"/>
                    <a:pt x="22" y="331"/>
                    <a:pt x="22" y="331"/>
                  </a:cubicBezTo>
                  <a:cubicBezTo>
                    <a:pt x="25" y="321"/>
                    <a:pt x="25" y="321"/>
                    <a:pt x="25" y="321"/>
                  </a:cubicBezTo>
                  <a:cubicBezTo>
                    <a:pt x="28" y="313"/>
                    <a:pt x="28" y="313"/>
                    <a:pt x="28" y="313"/>
                  </a:cubicBezTo>
                  <a:cubicBezTo>
                    <a:pt x="31" y="305"/>
                    <a:pt x="31" y="305"/>
                    <a:pt x="31" y="305"/>
                  </a:cubicBezTo>
                  <a:cubicBezTo>
                    <a:pt x="34" y="297"/>
                    <a:pt x="34" y="297"/>
                    <a:pt x="34" y="297"/>
                  </a:cubicBezTo>
                  <a:cubicBezTo>
                    <a:pt x="38" y="288"/>
                    <a:pt x="38" y="288"/>
                    <a:pt x="38" y="288"/>
                  </a:cubicBezTo>
                  <a:cubicBezTo>
                    <a:pt x="41" y="280"/>
                    <a:pt x="41" y="280"/>
                    <a:pt x="41" y="280"/>
                  </a:cubicBezTo>
                  <a:cubicBezTo>
                    <a:pt x="45" y="272"/>
                    <a:pt x="45" y="272"/>
                    <a:pt x="45" y="272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53" y="256"/>
                    <a:pt x="53" y="256"/>
                    <a:pt x="53" y="256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61" y="240"/>
                    <a:pt x="61" y="240"/>
                    <a:pt x="61" y="240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70" y="225"/>
                    <a:pt x="70" y="225"/>
                    <a:pt x="70" y="225"/>
                  </a:cubicBezTo>
                  <a:cubicBezTo>
                    <a:pt x="75" y="218"/>
                    <a:pt x="75" y="218"/>
                    <a:pt x="75" y="218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5" y="204"/>
                    <a:pt x="85" y="204"/>
                    <a:pt x="85" y="204"/>
                  </a:cubicBezTo>
                  <a:cubicBezTo>
                    <a:pt x="90" y="196"/>
                    <a:pt x="90" y="196"/>
                    <a:pt x="90" y="196"/>
                  </a:cubicBezTo>
                  <a:cubicBezTo>
                    <a:pt x="95" y="189"/>
                    <a:pt x="95" y="189"/>
                    <a:pt x="95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7" y="161"/>
                    <a:pt x="117" y="161"/>
                    <a:pt x="117" y="161"/>
                  </a:cubicBezTo>
                  <a:cubicBezTo>
                    <a:pt x="124" y="156"/>
                    <a:pt x="124" y="156"/>
                    <a:pt x="124" y="156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35" y="143"/>
                    <a:pt x="135" y="143"/>
                    <a:pt x="135" y="143"/>
                  </a:cubicBezTo>
                  <a:cubicBezTo>
                    <a:pt x="141" y="136"/>
                    <a:pt x="141" y="136"/>
                    <a:pt x="141" y="136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54" y="124"/>
                    <a:pt x="154" y="124"/>
                    <a:pt x="154" y="124"/>
                  </a:cubicBezTo>
                  <a:cubicBezTo>
                    <a:pt x="161" y="118"/>
                    <a:pt x="161" y="118"/>
                    <a:pt x="161" y="118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81" y="101"/>
                    <a:pt x="181" y="101"/>
                    <a:pt x="181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5" y="91"/>
                    <a:pt x="195" y="91"/>
                    <a:pt x="195" y="91"/>
                  </a:cubicBezTo>
                  <a:cubicBezTo>
                    <a:pt x="202" y="86"/>
                    <a:pt x="202" y="86"/>
                    <a:pt x="202" y="86"/>
                  </a:cubicBezTo>
                  <a:cubicBezTo>
                    <a:pt x="210" y="81"/>
                    <a:pt x="210" y="81"/>
                    <a:pt x="210" y="81"/>
                  </a:cubicBezTo>
                  <a:cubicBezTo>
                    <a:pt x="218" y="75"/>
                    <a:pt x="218" y="75"/>
                    <a:pt x="218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2" y="67"/>
                    <a:pt x="232" y="67"/>
                    <a:pt x="232" y="67"/>
                  </a:cubicBezTo>
                  <a:cubicBezTo>
                    <a:pt x="239" y="62"/>
                    <a:pt x="239" y="62"/>
                    <a:pt x="239" y="62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5" y="54"/>
                    <a:pt x="255" y="54"/>
                    <a:pt x="255" y="54"/>
                  </a:cubicBezTo>
                  <a:cubicBezTo>
                    <a:pt x="263" y="50"/>
                    <a:pt x="263" y="50"/>
                    <a:pt x="263" y="50"/>
                  </a:cubicBezTo>
                  <a:cubicBezTo>
                    <a:pt x="271" y="46"/>
                    <a:pt x="271" y="46"/>
                    <a:pt x="271" y="46"/>
                  </a:cubicBezTo>
                  <a:cubicBezTo>
                    <a:pt x="279" y="42"/>
                    <a:pt x="279" y="42"/>
                    <a:pt x="279" y="42"/>
                  </a:cubicBezTo>
                  <a:cubicBezTo>
                    <a:pt x="288" y="39"/>
                    <a:pt x="288" y="39"/>
                    <a:pt x="288" y="39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304" y="32"/>
                    <a:pt x="304" y="32"/>
                    <a:pt x="304" y="32"/>
                  </a:cubicBezTo>
                  <a:cubicBezTo>
                    <a:pt x="312" y="28"/>
                    <a:pt x="312" y="28"/>
                    <a:pt x="312" y="2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56" y="15"/>
                    <a:pt x="356" y="15"/>
                    <a:pt x="356" y="15"/>
                  </a:cubicBezTo>
                  <a:cubicBezTo>
                    <a:pt x="364" y="13"/>
                    <a:pt x="364" y="13"/>
                    <a:pt x="364" y="13"/>
                  </a:cubicBezTo>
                  <a:cubicBezTo>
                    <a:pt x="373" y="11"/>
                    <a:pt x="373" y="11"/>
                    <a:pt x="373" y="11"/>
                  </a:cubicBezTo>
                  <a:cubicBezTo>
                    <a:pt x="382" y="9"/>
                    <a:pt x="382" y="9"/>
                    <a:pt x="382" y="9"/>
                  </a:cubicBezTo>
                  <a:cubicBezTo>
                    <a:pt x="391" y="7"/>
                    <a:pt x="391" y="7"/>
                    <a:pt x="391" y="7"/>
                  </a:cubicBezTo>
                  <a:cubicBezTo>
                    <a:pt x="400" y="6"/>
                    <a:pt x="400" y="6"/>
                    <a:pt x="400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8" y="2"/>
                    <a:pt x="428" y="2"/>
                    <a:pt x="428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6" y="0"/>
                    <a:pt x="446" y="0"/>
                    <a:pt x="446" y="0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65" y="0"/>
                    <a:pt x="465" y="0"/>
                    <a:pt x="465" y="0"/>
                  </a:cubicBezTo>
                  <a:cubicBezTo>
                    <a:pt x="475" y="0"/>
                    <a:pt x="475" y="0"/>
                    <a:pt x="475" y="0"/>
                  </a:cubicBezTo>
                  <a:cubicBezTo>
                    <a:pt x="484" y="0"/>
                    <a:pt x="484" y="0"/>
                    <a:pt x="484" y="0"/>
                  </a:cubicBezTo>
                  <a:cubicBezTo>
                    <a:pt x="494" y="0"/>
                    <a:pt x="494" y="0"/>
                    <a:pt x="494" y="0"/>
                  </a:cubicBezTo>
                  <a:cubicBezTo>
                    <a:pt x="503" y="0"/>
                    <a:pt x="503" y="0"/>
                    <a:pt x="503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0" y="4"/>
                    <a:pt x="540" y="4"/>
                    <a:pt x="540" y="4"/>
                  </a:cubicBezTo>
                  <a:cubicBezTo>
                    <a:pt x="549" y="6"/>
                    <a:pt x="549" y="6"/>
                    <a:pt x="549" y="6"/>
                  </a:cubicBezTo>
                  <a:cubicBezTo>
                    <a:pt x="558" y="7"/>
                    <a:pt x="558" y="7"/>
                    <a:pt x="558" y="7"/>
                  </a:cubicBezTo>
                  <a:cubicBezTo>
                    <a:pt x="567" y="9"/>
                    <a:pt x="567" y="9"/>
                    <a:pt x="567" y="9"/>
                  </a:cubicBezTo>
                  <a:cubicBezTo>
                    <a:pt x="576" y="11"/>
                    <a:pt x="576" y="11"/>
                    <a:pt x="576" y="11"/>
                  </a:cubicBezTo>
                  <a:cubicBezTo>
                    <a:pt x="585" y="13"/>
                    <a:pt x="585" y="13"/>
                    <a:pt x="585" y="13"/>
                  </a:cubicBezTo>
                  <a:cubicBezTo>
                    <a:pt x="593" y="15"/>
                    <a:pt x="593" y="15"/>
                    <a:pt x="593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1" y="20"/>
                    <a:pt x="611" y="20"/>
                    <a:pt x="611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8" y="26"/>
                    <a:pt x="628" y="26"/>
                    <a:pt x="628" y="26"/>
                  </a:cubicBezTo>
                  <a:cubicBezTo>
                    <a:pt x="637" y="28"/>
                    <a:pt x="637" y="28"/>
                    <a:pt x="637" y="28"/>
                  </a:cubicBezTo>
                  <a:cubicBezTo>
                    <a:pt x="645" y="32"/>
                    <a:pt x="645" y="32"/>
                    <a:pt x="645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2" y="39"/>
                    <a:pt x="662" y="39"/>
                    <a:pt x="662" y="39"/>
                  </a:cubicBezTo>
                  <a:cubicBezTo>
                    <a:pt x="670" y="42"/>
                    <a:pt x="670" y="42"/>
                    <a:pt x="670" y="42"/>
                  </a:cubicBezTo>
                  <a:cubicBezTo>
                    <a:pt x="678" y="46"/>
                    <a:pt x="678" y="46"/>
                    <a:pt x="678" y="46"/>
                  </a:cubicBezTo>
                  <a:cubicBezTo>
                    <a:pt x="686" y="50"/>
                    <a:pt x="686" y="50"/>
                    <a:pt x="686" y="50"/>
                  </a:cubicBezTo>
                  <a:cubicBezTo>
                    <a:pt x="694" y="54"/>
                    <a:pt x="694" y="54"/>
                    <a:pt x="694" y="54"/>
                  </a:cubicBezTo>
                  <a:cubicBezTo>
                    <a:pt x="701" y="58"/>
                    <a:pt x="701" y="58"/>
                    <a:pt x="701" y="58"/>
                  </a:cubicBezTo>
                  <a:cubicBezTo>
                    <a:pt x="710" y="62"/>
                    <a:pt x="710" y="62"/>
                    <a:pt x="710" y="62"/>
                  </a:cubicBezTo>
                  <a:cubicBezTo>
                    <a:pt x="717" y="67"/>
                    <a:pt x="717" y="67"/>
                    <a:pt x="717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7" y="86"/>
                    <a:pt x="747" y="86"/>
                    <a:pt x="747" y="86"/>
                  </a:cubicBezTo>
                  <a:cubicBezTo>
                    <a:pt x="754" y="91"/>
                    <a:pt x="754" y="91"/>
                    <a:pt x="754" y="91"/>
                  </a:cubicBezTo>
                  <a:cubicBezTo>
                    <a:pt x="761" y="96"/>
                    <a:pt x="761" y="96"/>
                    <a:pt x="761" y="96"/>
                  </a:cubicBezTo>
                  <a:cubicBezTo>
                    <a:pt x="768" y="101"/>
                    <a:pt x="768" y="101"/>
                    <a:pt x="768" y="101"/>
                  </a:cubicBezTo>
                  <a:cubicBezTo>
                    <a:pt x="775" y="107"/>
                    <a:pt x="775" y="107"/>
                    <a:pt x="775" y="107"/>
                  </a:cubicBezTo>
                  <a:cubicBezTo>
                    <a:pt x="782" y="112"/>
                    <a:pt x="782" y="112"/>
                    <a:pt x="782" y="112"/>
                  </a:cubicBezTo>
                  <a:cubicBezTo>
                    <a:pt x="789" y="118"/>
                    <a:pt x="789" y="118"/>
                    <a:pt x="789" y="118"/>
                  </a:cubicBezTo>
                  <a:cubicBezTo>
                    <a:pt x="795" y="124"/>
                    <a:pt x="795" y="124"/>
                    <a:pt x="795" y="124"/>
                  </a:cubicBezTo>
                  <a:cubicBezTo>
                    <a:pt x="801" y="131"/>
                    <a:pt x="801" y="131"/>
                    <a:pt x="801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4" y="143"/>
                    <a:pt x="814" y="143"/>
                    <a:pt x="814" y="143"/>
                  </a:cubicBezTo>
                  <a:cubicBezTo>
                    <a:pt x="820" y="149"/>
                    <a:pt x="820" y="149"/>
                    <a:pt x="820" y="149"/>
                  </a:cubicBezTo>
                  <a:cubicBezTo>
                    <a:pt x="825" y="156"/>
                    <a:pt x="825" y="156"/>
                    <a:pt x="825" y="156"/>
                  </a:cubicBezTo>
                  <a:cubicBezTo>
                    <a:pt x="832" y="161"/>
                    <a:pt x="832" y="161"/>
                    <a:pt x="832" y="161"/>
                  </a:cubicBezTo>
                  <a:cubicBezTo>
                    <a:pt x="837" y="168"/>
                    <a:pt x="837" y="168"/>
                    <a:pt x="837" y="168"/>
                  </a:cubicBezTo>
                  <a:cubicBezTo>
                    <a:pt x="843" y="175"/>
                    <a:pt x="843" y="175"/>
                    <a:pt x="843" y="175"/>
                  </a:cubicBezTo>
                  <a:cubicBezTo>
                    <a:pt x="849" y="182"/>
                    <a:pt x="849" y="182"/>
                    <a:pt x="849" y="182"/>
                  </a:cubicBezTo>
                  <a:cubicBezTo>
                    <a:pt x="854" y="189"/>
                    <a:pt x="854" y="189"/>
                    <a:pt x="854" y="189"/>
                  </a:cubicBezTo>
                  <a:cubicBezTo>
                    <a:pt x="859" y="196"/>
                    <a:pt x="859" y="196"/>
                    <a:pt x="859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69" y="211"/>
                    <a:pt x="869" y="211"/>
                    <a:pt x="869" y="211"/>
                  </a:cubicBezTo>
                  <a:cubicBezTo>
                    <a:pt x="874" y="218"/>
                    <a:pt x="874" y="218"/>
                    <a:pt x="874" y="218"/>
                  </a:cubicBezTo>
                  <a:cubicBezTo>
                    <a:pt x="879" y="225"/>
                    <a:pt x="879" y="225"/>
                    <a:pt x="879" y="225"/>
                  </a:cubicBezTo>
                  <a:cubicBezTo>
                    <a:pt x="883" y="233"/>
                    <a:pt x="883" y="233"/>
                    <a:pt x="883" y="233"/>
                  </a:cubicBezTo>
                  <a:cubicBezTo>
                    <a:pt x="888" y="240"/>
                    <a:pt x="888" y="240"/>
                    <a:pt x="888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0" y="264"/>
                    <a:pt x="900" y="264"/>
                    <a:pt x="900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1" y="288"/>
                    <a:pt x="911" y="288"/>
                    <a:pt x="911" y="288"/>
                  </a:cubicBezTo>
                  <a:cubicBezTo>
                    <a:pt x="915" y="297"/>
                    <a:pt x="915" y="297"/>
                    <a:pt x="915" y="297"/>
                  </a:cubicBezTo>
                  <a:cubicBezTo>
                    <a:pt x="918" y="305"/>
                    <a:pt x="918" y="305"/>
                    <a:pt x="918" y="305"/>
                  </a:cubicBezTo>
                  <a:cubicBezTo>
                    <a:pt x="921" y="313"/>
                    <a:pt x="921" y="313"/>
                    <a:pt x="921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7" y="331"/>
                    <a:pt x="927" y="331"/>
                    <a:pt x="927" y="331"/>
                  </a:cubicBezTo>
                  <a:cubicBezTo>
                    <a:pt x="930" y="339"/>
                    <a:pt x="930" y="339"/>
                    <a:pt x="930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5" y="356"/>
                    <a:pt x="935" y="356"/>
                    <a:pt x="935" y="356"/>
                  </a:cubicBezTo>
                  <a:cubicBezTo>
                    <a:pt x="937" y="365"/>
                    <a:pt x="937" y="365"/>
                    <a:pt x="937" y="365"/>
                  </a:cubicBezTo>
                  <a:cubicBezTo>
                    <a:pt x="939" y="374"/>
                    <a:pt x="939" y="374"/>
                    <a:pt x="939" y="374"/>
                  </a:cubicBezTo>
                  <a:cubicBezTo>
                    <a:pt x="941" y="384"/>
                    <a:pt x="941" y="384"/>
                    <a:pt x="941" y="384"/>
                  </a:cubicBezTo>
                  <a:cubicBezTo>
                    <a:pt x="943" y="392"/>
                    <a:pt x="943" y="392"/>
                    <a:pt x="943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6" y="410"/>
                    <a:pt x="946" y="410"/>
                    <a:pt x="946" y="410"/>
                  </a:cubicBezTo>
                  <a:cubicBezTo>
                    <a:pt x="946" y="420"/>
                    <a:pt x="946" y="420"/>
                    <a:pt x="946" y="420"/>
                  </a:cubicBezTo>
                  <a:cubicBezTo>
                    <a:pt x="947" y="429"/>
                    <a:pt x="947" y="429"/>
                    <a:pt x="947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49" y="447"/>
                    <a:pt x="949" y="447"/>
                    <a:pt x="949" y="447"/>
                  </a:cubicBezTo>
                  <a:cubicBezTo>
                    <a:pt x="949" y="456"/>
                    <a:pt x="949" y="456"/>
                    <a:pt x="949" y="456"/>
                  </a:cubicBezTo>
                  <a:cubicBezTo>
                    <a:pt x="950" y="466"/>
                    <a:pt x="950" y="466"/>
                    <a:pt x="950" y="466"/>
                  </a:cubicBezTo>
                  <a:cubicBezTo>
                    <a:pt x="950" y="476"/>
                    <a:pt x="950" y="476"/>
                    <a:pt x="950" y="476"/>
                  </a:cubicBezTo>
                  <a:cubicBezTo>
                    <a:pt x="950" y="476"/>
                    <a:pt x="950" y="476"/>
                    <a:pt x="950" y="476"/>
                  </a:cubicBezTo>
                  <a:close/>
                </a:path>
              </a:pathLst>
            </a:custGeom>
            <a:solidFill>
              <a:srgbClr val="b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34760" y="4917600"/>
              <a:ext cx="1083600" cy="1083600"/>
            </a:xfrm>
            <a:custGeom>
              <a:avLst/>
              <a:gdLst/>
              <a:ahLst/>
              <a:rect l="l" t="t" r="r" b="b"/>
              <a:pathLst>
                <a:path w="951" h="951">
                  <a:moveTo>
                    <a:pt x="951" y="485"/>
                  </a:moveTo>
                  <a:cubicBezTo>
                    <a:pt x="951" y="485"/>
                    <a:pt x="951" y="485"/>
                    <a:pt x="951" y="485"/>
                  </a:cubicBezTo>
                  <a:cubicBezTo>
                    <a:pt x="951" y="494"/>
                    <a:pt x="951" y="494"/>
                    <a:pt x="951" y="494"/>
                  </a:cubicBezTo>
                  <a:cubicBezTo>
                    <a:pt x="950" y="504"/>
                    <a:pt x="950" y="504"/>
                    <a:pt x="950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9" y="522"/>
                    <a:pt x="949" y="522"/>
                    <a:pt x="949" y="522"/>
                  </a:cubicBezTo>
                  <a:cubicBezTo>
                    <a:pt x="947" y="532"/>
                    <a:pt x="947" y="532"/>
                    <a:pt x="947" y="532"/>
                  </a:cubicBezTo>
                  <a:cubicBezTo>
                    <a:pt x="947" y="541"/>
                    <a:pt x="947" y="541"/>
                    <a:pt x="947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4" y="559"/>
                    <a:pt x="944" y="559"/>
                    <a:pt x="944" y="559"/>
                  </a:cubicBezTo>
                  <a:cubicBezTo>
                    <a:pt x="942" y="568"/>
                    <a:pt x="942" y="568"/>
                    <a:pt x="942" y="568"/>
                  </a:cubicBezTo>
                  <a:cubicBezTo>
                    <a:pt x="940" y="577"/>
                    <a:pt x="940" y="577"/>
                    <a:pt x="940" y="577"/>
                  </a:cubicBezTo>
                  <a:cubicBezTo>
                    <a:pt x="938" y="586"/>
                    <a:pt x="938" y="586"/>
                    <a:pt x="938" y="586"/>
                  </a:cubicBezTo>
                  <a:cubicBezTo>
                    <a:pt x="936" y="594"/>
                    <a:pt x="936" y="594"/>
                    <a:pt x="936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1" y="613"/>
                    <a:pt x="931" y="613"/>
                    <a:pt x="931" y="613"/>
                  </a:cubicBezTo>
                  <a:cubicBezTo>
                    <a:pt x="928" y="621"/>
                    <a:pt x="928" y="621"/>
                    <a:pt x="928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3" y="637"/>
                    <a:pt x="923" y="637"/>
                    <a:pt x="923" y="637"/>
                  </a:cubicBezTo>
                  <a:cubicBezTo>
                    <a:pt x="919" y="646"/>
                    <a:pt x="919" y="646"/>
                    <a:pt x="919" y="646"/>
                  </a:cubicBezTo>
                  <a:cubicBezTo>
                    <a:pt x="916" y="654"/>
                    <a:pt x="916" y="654"/>
                    <a:pt x="916" y="654"/>
                  </a:cubicBezTo>
                  <a:cubicBezTo>
                    <a:pt x="912" y="663"/>
                    <a:pt x="912" y="663"/>
                    <a:pt x="912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1" y="686"/>
                    <a:pt x="901" y="686"/>
                    <a:pt x="901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9" y="710"/>
                    <a:pt x="889" y="710"/>
                    <a:pt x="889" y="710"/>
                  </a:cubicBezTo>
                  <a:cubicBezTo>
                    <a:pt x="884" y="718"/>
                    <a:pt x="884" y="718"/>
                    <a:pt x="884" y="718"/>
                  </a:cubicBezTo>
                  <a:cubicBezTo>
                    <a:pt x="880" y="726"/>
                    <a:pt x="880" y="726"/>
                    <a:pt x="880" y="726"/>
                  </a:cubicBezTo>
                  <a:cubicBezTo>
                    <a:pt x="876" y="733"/>
                    <a:pt x="876" y="733"/>
                    <a:pt x="876" y="733"/>
                  </a:cubicBezTo>
                  <a:cubicBezTo>
                    <a:pt x="870" y="741"/>
                    <a:pt x="870" y="741"/>
                    <a:pt x="870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60" y="755"/>
                    <a:pt x="860" y="755"/>
                    <a:pt x="860" y="755"/>
                  </a:cubicBezTo>
                  <a:cubicBezTo>
                    <a:pt x="855" y="762"/>
                    <a:pt x="855" y="762"/>
                    <a:pt x="855" y="762"/>
                  </a:cubicBezTo>
                  <a:cubicBezTo>
                    <a:pt x="850" y="769"/>
                    <a:pt x="850" y="769"/>
                    <a:pt x="850" y="769"/>
                  </a:cubicBezTo>
                  <a:cubicBezTo>
                    <a:pt x="844" y="775"/>
                    <a:pt x="844" y="775"/>
                    <a:pt x="844" y="775"/>
                  </a:cubicBezTo>
                  <a:cubicBezTo>
                    <a:pt x="839" y="782"/>
                    <a:pt x="839" y="782"/>
                    <a:pt x="839" y="782"/>
                  </a:cubicBezTo>
                  <a:cubicBezTo>
                    <a:pt x="833" y="789"/>
                    <a:pt x="833" y="789"/>
                    <a:pt x="833" y="789"/>
                  </a:cubicBezTo>
                  <a:cubicBezTo>
                    <a:pt x="827" y="796"/>
                    <a:pt x="827" y="796"/>
                    <a:pt x="827" y="796"/>
                  </a:cubicBezTo>
                  <a:cubicBezTo>
                    <a:pt x="821" y="802"/>
                    <a:pt x="821" y="802"/>
                    <a:pt x="821" y="802"/>
                  </a:cubicBezTo>
                  <a:cubicBezTo>
                    <a:pt x="815" y="809"/>
                    <a:pt x="815" y="809"/>
                    <a:pt x="815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2" y="821"/>
                    <a:pt x="802" y="821"/>
                    <a:pt x="802" y="821"/>
                  </a:cubicBezTo>
                  <a:cubicBezTo>
                    <a:pt x="796" y="827"/>
                    <a:pt x="796" y="827"/>
                    <a:pt x="796" y="827"/>
                  </a:cubicBezTo>
                  <a:cubicBezTo>
                    <a:pt x="790" y="833"/>
                    <a:pt x="790" y="833"/>
                    <a:pt x="790" y="833"/>
                  </a:cubicBezTo>
                  <a:cubicBezTo>
                    <a:pt x="783" y="838"/>
                    <a:pt x="783" y="838"/>
                    <a:pt x="783" y="838"/>
                  </a:cubicBezTo>
                  <a:cubicBezTo>
                    <a:pt x="776" y="844"/>
                    <a:pt x="776" y="844"/>
                    <a:pt x="776" y="844"/>
                  </a:cubicBezTo>
                  <a:cubicBezTo>
                    <a:pt x="769" y="850"/>
                    <a:pt x="769" y="850"/>
                    <a:pt x="769" y="850"/>
                  </a:cubicBezTo>
                  <a:cubicBezTo>
                    <a:pt x="762" y="855"/>
                    <a:pt x="762" y="855"/>
                    <a:pt x="762" y="855"/>
                  </a:cubicBezTo>
                  <a:cubicBezTo>
                    <a:pt x="755" y="860"/>
                    <a:pt x="755" y="860"/>
                    <a:pt x="755" y="860"/>
                  </a:cubicBezTo>
                  <a:cubicBezTo>
                    <a:pt x="748" y="866"/>
                    <a:pt x="748" y="866"/>
                    <a:pt x="748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9" y="884"/>
                    <a:pt x="719" y="884"/>
                    <a:pt x="719" y="884"/>
                  </a:cubicBezTo>
                  <a:cubicBezTo>
                    <a:pt x="711" y="889"/>
                    <a:pt x="711" y="889"/>
                    <a:pt x="711" y="889"/>
                  </a:cubicBezTo>
                  <a:cubicBezTo>
                    <a:pt x="703" y="893"/>
                    <a:pt x="703" y="893"/>
                    <a:pt x="703" y="893"/>
                  </a:cubicBezTo>
                  <a:cubicBezTo>
                    <a:pt x="695" y="897"/>
                    <a:pt x="695" y="897"/>
                    <a:pt x="695" y="897"/>
                  </a:cubicBezTo>
                  <a:cubicBezTo>
                    <a:pt x="687" y="902"/>
                    <a:pt x="687" y="902"/>
                    <a:pt x="687" y="902"/>
                  </a:cubicBezTo>
                  <a:cubicBezTo>
                    <a:pt x="679" y="906"/>
                    <a:pt x="679" y="906"/>
                    <a:pt x="679" y="906"/>
                  </a:cubicBezTo>
                  <a:cubicBezTo>
                    <a:pt x="671" y="909"/>
                    <a:pt x="671" y="909"/>
                    <a:pt x="671" y="909"/>
                  </a:cubicBezTo>
                  <a:cubicBezTo>
                    <a:pt x="663" y="912"/>
                    <a:pt x="663" y="912"/>
                    <a:pt x="663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6" y="919"/>
                    <a:pt x="646" y="919"/>
                    <a:pt x="646" y="919"/>
                  </a:cubicBezTo>
                  <a:cubicBezTo>
                    <a:pt x="638" y="922"/>
                    <a:pt x="638" y="922"/>
                    <a:pt x="638" y="922"/>
                  </a:cubicBezTo>
                  <a:cubicBezTo>
                    <a:pt x="629" y="925"/>
                    <a:pt x="629" y="925"/>
                    <a:pt x="629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3" y="931"/>
                    <a:pt x="613" y="931"/>
                    <a:pt x="613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5" y="935"/>
                    <a:pt x="595" y="935"/>
                    <a:pt x="595" y="935"/>
                  </a:cubicBezTo>
                  <a:cubicBezTo>
                    <a:pt x="586" y="938"/>
                    <a:pt x="586" y="938"/>
                    <a:pt x="586" y="938"/>
                  </a:cubicBezTo>
                  <a:cubicBezTo>
                    <a:pt x="577" y="940"/>
                    <a:pt x="577" y="940"/>
                    <a:pt x="577" y="940"/>
                  </a:cubicBezTo>
                  <a:cubicBezTo>
                    <a:pt x="568" y="942"/>
                    <a:pt x="568" y="942"/>
                    <a:pt x="568" y="942"/>
                  </a:cubicBezTo>
                  <a:cubicBezTo>
                    <a:pt x="559" y="943"/>
                    <a:pt x="559" y="943"/>
                    <a:pt x="559" y="943"/>
                  </a:cubicBezTo>
                  <a:cubicBezTo>
                    <a:pt x="550" y="944"/>
                    <a:pt x="550" y="944"/>
                    <a:pt x="550" y="944"/>
                  </a:cubicBezTo>
                  <a:cubicBezTo>
                    <a:pt x="541" y="946"/>
                    <a:pt x="541" y="946"/>
                    <a:pt x="541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4" y="950"/>
                    <a:pt x="504" y="950"/>
                    <a:pt x="504" y="950"/>
                  </a:cubicBezTo>
                  <a:cubicBezTo>
                    <a:pt x="495" y="951"/>
                    <a:pt x="495" y="951"/>
                    <a:pt x="495" y="951"/>
                  </a:cubicBezTo>
                  <a:cubicBezTo>
                    <a:pt x="485" y="951"/>
                    <a:pt x="485" y="951"/>
                    <a:pt x="485" y="951"/>
                  </a:cubicBezTo>
                  <a:cubicBezTo>
                    <a:pt x="476" y="951"/>
                    <a:pt x="476" y="951"/>
                    <a:pt x="476" y="951"/>
                  </a:cubicBezTo>
                  <a:cubicBezTo>
                    <a:pt x="466" y="951"/>
                    <a:pt x="466" y="951"/>
                    <a:pt x="466" y="951"/>
                  </a:cubicBezTo>
                  <a:cubicBezTo>
                    <a:pt x="457" y="951"/>
                    <a:pt x="457" y="951"/>
                    <a:pt x="457" y="951"/>
                  </a:cubicBezTo>
                  <a:cubicBezTo>
                    <a:pt x="447" y="950"/>
                    <a:pt x="447" y="950"/>
                    <a:pt x="447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9" y="948"/>
                    <a:pt x="429" y="948"/>
                    <a:pt x="429" y="948"/>
                  </a:cubicBezTo>
                  <a:cubicBezTo>
                    <a:pt x="420" y="947"/>
                    <a:pt x="420" y="947"/>
                    <a:pt x="420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1" y="944"/>
                    <a:pt x="401" y="944"/>
                    <a:pt x="401" y="944"/>
                  </a:cubicBezTo>
                  <a:cubicBezTo>
                    <a:pt x="392" y="943"/>
                    <a:pt x="392" y="943"/>
                    <a:pt x="392" y="943"/>
                  </a:cubicBezTo>
                  <a:cubicBezTo>
                    <a:pt x="383" y="942"/>
                    <a:pt x="383" y="942"/>
                    <a:pt x="383" y="942"/>
                  </a:cubicBezTo>
                  <a:cubicBezTo>
                    <a:pt x="374" y="940"/>
                    <a:pt x="374" y="940"/>
                    <a:pt x="374" y="940"/>
                  </a:cubicBezTo>
                  <a:cubicBezTo>
                    <a:pt x="365" y="938"/>
                    <a:pt x="365" y="938"/>
                    <a:pt x="365" y="938"/>
                  </a:cubicBezTo>
                  <a:cubicBezTo>
                    <a:pt x="357" y="935"/>
                    <a:pt x="357" y="935"/>
                    <a:pt x="357" y="935"/>
                  </a:cubicBezTo>
                  <a:cubicBezTo>
                    <a:pt x="348" y="934"/>
                    <a:pt x="348" y="934"/>
                    <a:pt x="348" y="934"/>
                  </a:cubicBezTo>
                  <a:cubicBezTo>
                    <a:pt x="340" y="931"/>
                    <a:pt x="340" y="931"/>
                    <a:pt x="340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2" y="925"/>
                    <a:pt x="322" y="925"/>
                    <a:pt x="322" y="925"/>
                  </a:cubicBezTo>
                  <a:cubicBezTo>
                    <a:pt x="314" y="922"/>
                    <a:pt x="314" y="922"/>
                    <a:pt x="314" y="922"/>
                  </a:cubicBezTo>
                  <a:cubicBezTo>
                    <a:pt x="305" y="919"/>
                    <a:pt x="305" y="919"/>
                    <a:pt x="305" y="919"/>
                  </a:cubicBezTo>
                  <a:cubicBezTo>
                    <a:pt x="297" y="916"/>
                    <a:pt x="297" y="916"/>
                    <a:pt x="297" y="916"/>
                  </a:cubicBezTo>
                  <a:cubicBezTo>
                    <a:pt x="289" y="912"/>
                    <a:pt x="289" y="912"/>
                    <a:pt x="289" y="912"/>
                  </a:cubicBezTo>
                  <a:cubicBezTo>
                    <a:pt x="280" y="909"/>
                    <a:pt x="280" y="909"/>
                    <a:pt x="280" y="909"/>
                  </a:cubicBezTo>
                  <a:cubicBezTo>
                    <a:pt x="273" y="906"/>
                    <a:pt x="273" y="906"/>
                    <a:pt x="273" y="906"/>
                  </a:cubicBezTo>
                  <a:cubicBezTo>
                    <a:pt x="265" y="902"/>
                    <a:pt x="265" y="902"/>
                    <a:pt x="265" y="902"/>
                  </a:cubicBezTo>
                  <a:cubicBezTo>
                    <a:pt x="257" y="897"/>
                    <a:pt x="257" y="897"/>
                    <a:pt x="257" y="897"/>
                  </a:cubicBezTo>
                  <a:cubicBezTo>
                    <a:pt x="249" y="893"/>
                    <a:pt x="249" y="893"/>
                    <a:pt x="249" y="893"/>
                  </a:cubicBezTo>
                  <a:cubicBezTo>
                    <a:pt x="241" y="889"/>
                    <a:pt x="241" y="889"/>
                    <a:pt x="241" y="889"/>
                  </a:cubicBezTo>
                  <a:cubicBezTo>
                    <a:pt x="233" y="884"/>
                    <a:pt x="233" y="884"/>
                    <a:pt x="233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9" y="875"/>
                    <a:pt x="219" y="875"/>
                    <a:pt x="219" y="875"/>
                  </a:cubicBezTo>
                  <a:cubicBezTo>
                    <a:pt x="211" y="870"/>
                    <a:pt x="211" y="870"/>
                    <a:pt x="211" y="870"/>
                  </a:cubicBezTo>
                  <a:cubicBezTo>
                    <a:pt x="204" y="866"/>
                    <a:pt x="204" y="866"/>
                    <a:pt x="204" y="866"/>
                  </a:cubicBezTo>
                  <a:cubicBezTo>
                    <a:pt x="197" y="860"/>
                    <a:pt x="197" y="860"/>
                    <a:pt x="197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3" y="850"/>
                    <a:pt x="183" y="850"/>
                    <a:pt x="183" y="850"/>
                  </a:cubicBezTo>
                  <a:cubicBezTo>
                    <a:pt x="176" y="844"/>
                    <a:pt x="176" y="844"/>
                    <a:pt x="176" y="844"/>
                  </a:cubicBezTo>
                  <a:cubicBezTo>
                    <a:pt x="169" y="838"/>
                    <a:pt x="169" y="838"/>
                    <a:pt x="169" y="838"/>
                  </a:cubicBezTo>
                  <a:cubicBezTo>
                    <a:pt x="162" y="833"/>
                    <a:pt x="162" y="833"/>
                    <a:pt x="162" y="833"/>
                  </a:cubicBezTo>
                  <a:cubicBezTo>
                    <a:pt x="155" y="827"/>
                    <a:pt x="155" y="827"/>
                    <a:pt x="155" y="827"/>
                  </a:cubicBezTo>
                  <a:cubicBezTo>
                    <a:pt x="149" y="821"/>
                    <a:pt x="149" y="821"/>
                    <a:pt x="149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6" y="809"/>
                    <a:pt x="136" y="809"/>
                    <a:pt x="136" y="809"/>
                  </a:cubicBezTo>
                  <a:cubicBezTo>
                    <a:pt x="130" y="802"/>
                    <a:pt x="130" y="802"/>
                    <a:pt x="130" y="802"/>
                  </a:cubicBezTo>
                  <a:cubicBezTo>
                    <a:pt x="125" y="796"/>
                    <a:pt x="125" y="796"/>
                    <a:pt x="125" y="796"/>
                  </a:cubicBezTo>
                  <a:cubicBezTo>
                    <a:pt x="119" y="789"/>
                    <a:pt x="119" y="789"/>
                    <a:pt x="119" y="789"/>
                  </a:cubicBezTo>
                  <a:cubicBezTo>
                    <a:pt x="113" y="782"/>
                    <a:pt x="113" y="782"/>
                    <a:pt x="113" y="782"/>
                  </a:cubicBezTo>
                  <a:cubicBezTo>
                    <a:pt x="108" y="775"/>
                    <a:pt x="108" y="775"/>
                    <a:pt x="108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6" y="762"/>
                    <a:pt x="96" y="762"/>
                    <a:pt x="96" y="762"/>
                  </a:cubicBezTo>
                  <a:cubicBezTo>
                    <a:pt x="91" y="755"/>
                    <a:pt x="91" y="755"/>
                    <a:pt x="91" y="755"/>
                  </a:cubicBezTo>
                  <a:cubicBezTo>
                    <a:pt x="86" y="747"/>
                    <a:pt x="86" y="747"/>
                    <a:pt x="86" y="747"/>
                  </a:cubicBezTo>
                  <a:cubicBezTo>
                    <a:pt x="81" y="741"/>
                    <a:pt x="81" y="741"/>
                    <a:pt x="81" y="741"/>
                  </a:cubicBezTo>
                  <a:cubicBezTo>
                    <a:pt x="76" y="733"/>
                    <a:pt x="76" y="733"/>
                    <a:pt x="76" y="733"/>
                  </a:cubicBezTo>
                  <a:cubicBezTo>
                    <a:pt x="71" y="726"/>
                    <a:pt x="71" y="726"/>
                    <a:pt x="71" y="726"/>
                  </a:cubicBezTo>
                  <a:cubicBezTo>
                    <a:pt x="67" y="718"/>
                    <a:pt x="67" y="718"/>
                    <a:pt x="67" y="718"/>
                  </a:cubicBezTo>
                  <a:cubicBezTo>
                    <a:pt x="62" y="710"/>
                    <a:pt x="62" y="710"/>
                    <a:pt x="62" y="710"/>
                  </a:cubicBezTo>
                  <a:cubicBezTo>
                    <a:pt x="59" y="703"/>
                    <a:pt x="59" y="703"/>
                    <a:pt x="59" y="703"/>
                  </a:cubicBezTo>
                  <a:cubicBezTo>
                    <a:pt x="54" y="695"/>
                    <a:pt x="54" y="695"/>
                    <a:pt x="54" y="695"/>
                  </a:cubicBezTo>
                  <a:cubicBezTo>
                    <a:pt x="50" y="686"/>
                    <a:pt x="50" y="686"/>
                    <a:pt x="50" y="686"/>
                  </a:cubicBezTo>
                  <a:cubicBezTo>
                    <a:pt x="46" y="679"/>
                    <a:pt x="46" y="679"/>
                    <a:pt x="46" y="679"/>
                  </a:cubicBezTo>
                  <a:cubicBezTo>
                    <a:pt x="43" y="670"/>
                    <a:pt x="43" y="670"/>
                    <a:pt x="43" y="670"/>
                  </a:cubicBezTo>
                  <a:cubicBezTo>
                    <a:pt x="39" y="663"/>
                    <a:pt x="39" y="663"/>
                    <a:pt x="39" y="663"/>
                  </a:cubicBezTo>
                  <a:cubicBezTo>
                    <a:pt x="35" y="654"/>
                    <a:pt x="35" y="654"/>
                    <a:pt x="35" y="654"/>
                  </a:cubicBezTo>
                  <a:cubicBezTo>
                    <a:pt x="32" y="646"/>
                    <a:pt x="32" y="646"/>
                    <a:pt x="32" y="646"/>
                  </a:cubicBezTo>
                  <a:cubicBezTo>
                    <a:pt x="29" y="637"/>
                    <a:pt x="29" y="637"/>
                    <a:pt x="29" y="637"/>
                  </a:cubicBezTo>
                  <a:cubicBezTo>
                    <a:pt x="26" y="629"/>
                    <a:pt x="26" y="629"/>
                    <a:pt x="26" y="629"/>
                  </a:cubicBezTo>
                  <a:cubicBezTo>
                    <a:pt x="23" y="621"/>
                    <a:pt x="23" y="621"/>
                    <a:pt x="23" y="621"/>
                  </a:cubicBezTo>
                  <a:cubicBezTo>
                    <a:pt x="20" y="613"/>
                    <a:pt x="20" y="613"/>
                    <a:pt x="20" y="613"/>
                  </a:cubicBezTo>
                  <a:cubicBezTo>
                    <a:pt x="18" y="603"/>
                    <a:pt x="18" y="603"/>
                    <a:pt x="18" y="603"/>
                  </a:cubicBezTo>
                  <a:cubicBezTo>
                    <a:pt x="15" y="594"/>
                    <a:pt x="15" y="594"/>
                    <a:pt x="15" y="594"/>
                  </a:cubicBezTo>
                  <a:cubicBezTo>
                    <a:pt x="13" y="586"/>
                    <a:pt x="13" y="586"/>
                    <a:pt x="13" y="586"/>
                  </a:cubicBezTo>
                  <a:cubicBezTo>
                    <a:pt x="11" y="577"/>
                    <a:pt x="11" y="577"/>
                    <a:pt x="11" y="577"/>
                  </a:cubicBezTo>
                  <a:cubicBezTo>
                    <a:pt x="10" y="568"/>
                    <a:pt x="10" y="568"/>
                    <a:pt x="10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6" y="550"/>
                    <a:pt x="6" y="550"/>
                    <a:pt x="6" y="550"/>
                  </a:cubicBezTo>
                  <a:cubicBezTo>
                    <a:pt x="5" y="541"/>
                    <a:pt x="5" y="541"/>
                    <a:pt x="5" y="541"/>
                  </a:cubicBezTo>
                  <a:cubicBezTo>
                    <a:pt x="4" y="532"/>
                    <a:pt x="4" y="532"/>
                    <a:pt x="4" y="532"/>
                  </a:cubicBezTo>
                  <a:cubicBezTo>
                    <a:pt x="3" y="522"/>
                    <a:pt x="3" y="522"/>
                    <a:pt x="3" y="522"/>
                  </a:cubicBezTo>
                  <a:cubicBezTo>
                    <a:pt x="2" y="513"/>
                    <a:pt x="2" y="513"/>
                    <a:pt x="2" y="513"/>
                  </a:cubicBezTo>
                  <a:cubicBezTo>
                    <a:pt x="1" y="504"/>
                    <a:pt x="1" y="504"/>
                    <a:pt x="1" y="504"/>
                  </a:cubicBezTo>
                  <a:cubicBezTo>
                    <a:pt x="1" y="494"/>
                    <a:pt x="1" y="494"/>
                    <a:pt x="1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1" y="456"/>
                    <a:pt x="1" y="456"/>
                    <a:pt x="1" y="456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2" y="438"/>
                    <a:pt x="2" y="438"/>
                    <a:pt x="2" y="438"/>
                  </a:cubicBezTo>
                  <a:cubicBezTo>
                    <a:pt x="3" y="429"/>
                    <a:pt x="3" y="429"/>
                    <a:pt x="3" y="429"/>
                  </a:cubicBezTo>
                  <a:cubicBezTo>
                    <a:pt x="4" y="420"/>
                    <a:pt x="4" y="420"/>
                    <a:pt x="4" y="420"/>
                  </a:cubicBezTo>
                  <a:cubicBezTo>
                    <a:pt x="5" y="410"/>
                    <a:pt x="5" y="410"/>
                    <a:pt x="5" y="410"/>
                  </a:cubicBezTo>
                  <a:cubicBezTo>
                    <a:pt x="6" y="401"/>
                    <a:pt x="6" y="401"/>
                    <a:pt x="6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10" y="384"/>
                    <a:pt x="10" y="384"/>
                    <a:pt x="10" y="384"/>
                  </a:cubicBezTo>
                  <a:cubicBezTo>
                    <a:pt x="11" y="374"/>
                    <a:pt x="11" y="374"/>
                    <a:pt x="11" y="374"/>
                  </a:cubicBezTo>
                  <a:cubicBezTo>
                    <a:pt x="13" y="365"/>
                    <a:pt x="13" y="365"/>
                    <a:pt x="13" y="365"/>
                  </a:cubicBezTo>
                  <a:cubicBezTo>
                    <a:pt x="15" y="356"/>
                    <a:pt x="15" y="356"/>
                    <a:pt x="15" y="356"/>
                  </a:cubicBezTo>
                  <a:cubicBezTo>
                    <a:pt x="18" y="348"/>
                    <a:pt x="18" y="348"/>
                    <a:pt x="18" y="348"/>
                  </a:cubicBezTo>
                  <a:cubicBezTo>
                    <a:pt x="20" y="339"/>
                    <a:pt x="20" y="339"/>
                    <a:pt x="20" y="339"/>
                  </a:cubicBezTo>
                  <a:cubicBezTo>
                    <a:pt x="23" y="331"/>
                    <a:pt x="23" y="331"/>
                    <a:pt x="23" y="331"/>
                  </a:cubicBezTo>
                  <a:cubicBezTo>
                    <a:pt x="26" y="321"/>
                    <a:pt x="26" y="321"/>
                    <a:pt x="26" y="321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32" y="305"/>
                    <a:pt x="32" y="305"/>
                    <a:pt x="32" y="305"/>
                  </a:cubicBezTo>
                  <a:cubicBezTo>
                    <a:pt x="35" y="297"/>
                    <a:pt x="35" y="297"/>
                    <a:pt x="35" y="297"/>
                  </a:cubicBezTo>
                  <a:cubicBezTo>
                    <a:pt x="39" y="288"/>
                    <a:pt x="39" y="288"/>
                    <a:pt x="39" y="288"/>
                  </a:cubicBezTo>
                  <a:cubicBezTo>
                    <a:pt x="43" y="280"/>
                    <a:pt x="43" y="280"/>
                    <a:pt x="43" y="280"/>
                  </a:cubicBezTo>
                  <a:cubicBezTo>
                    <a:pt x="46" y="272"/>
                    <a:pt x="46" y="272"/>
                    <a:pt x="46" y="272"/>
                  </a:cubicBezTo>
                  <a:cubicBezTo>
                    <a:pt x="50" y="264"/>
                    <a:pt x="50" y="264"/>
                    <a:pt x="50" y="264"/>
                  </a:cubicBezTo>
                  <a:cubicBezTo>
                    <a:pt x="54" y="256"/>
                    <a:pt x="54" y="256"/>
                    <a:pt x="54" y="256"/>
                  </a:cubicBezTo>
                  <a:cubicBezTo>
                    <a:pt x="59" y="248"/>
                    <a:pt x="59" y="248"/>
                    <a:pt x="59" y="248"/>
                  </a:cubicBezTo>
                  <a:cubicBezTo>
                    <a:pt x="62" y="240"/>
                    <a:pt x="62" y="240"/>
                    <a:pt x="62" y="240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1" y="225"/>
                    <a:pt x="71" y="225"/>
                    <a:pt x="71" y="225"/>
                  </a:cubicBezTo>
                  <a:cubicBezTo>
                    <a:pt x="76" y="218"/>
                    <a:pt x="76" y="218"/>
                    <a:pt x="76" y="218"/>
                  </a:cubicBezTo>
                  <a:cubicBezTo>
                    <a:pt x="81" y="211"/>
                    <a:pt x="81" y="211"/>
                    <a:pt x="81" y="211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1" y="196"/>
                    <a:pt x="91" y="196"/>
                    <a:pt x="91" y="196"/>
                  </a:cubicBezTo>
                  <a:cubicBezTo>
                    <a:pt x="96" y="189"/>
                    <a:pt x="96" y="189"/>
                    <a:pt x="96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8" y="175"/>
                    <a:pt x="108" y="175"/>
                    <a:pt x="108" y="175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19" y="161"/>
                    <a:pt x="119" y="161"/>
                    <a:pt x="119" y="161"/>
                  </a:cubicBezTo>
                  <a:cubicBezTo>
                    <a:pt x="125" y="156"/>
                    <a:pt x="125" y="156"/>
                    <a:pt x="125" y="156"/>
                  </a:cubicBezTo>
                  <a:cubicBezTo>
                    <a:pt x="130" y="149"/>
                    <a:pt x="130" y="149"/>
                    <a:pt x="130" y="149"/>
                  </a:cubicBezTo>
                  <a:cubicBezTo>
                    <a:pt x="136" y="143"/>
                    <a:pt x="136" y="143"/>
                    <a:pt x="136" y="143"/>
                  </a:cubicBezTo>
                  <a:cubicBezTo>
                    <a:pt x="142" y="136"/>
                    <a:pt x="142" y="136"/>
                    <a:pt x="142" y="136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5" y="124"/>
                    <a:pt x="155" y="124"/>
                    <a:pt x="155" y="124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9" y="112"/>
                    <a:pt x="169" y="112"/>
                    <a:pt x="169" y="112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83" y="101"/>
                    <a:pt x="183" y="101"/>
                    <a:pt x="183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1"/>
                    <a:pt x="197" y="91"/>
                    <a:pt x="197" y="91"/>
                  </a:cubicBezTo>
                  <a:cubicBezTo>
                    <a:pt x="204" y="86"/>
                    <a:pt x="204" y="86"/>
                    <a:pt x="204" y="86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3" y="67"/>
                    <a:pt x="233" y="67"/>
                    <a:pt x="233" y="67"/>
                  </a:cubicBezTo>
                  <a:cubicBezTo>
                    <a:pt x="241" y="62"/>
                    <a:pt x="241" y="62"/>
                    <a:pt x="241" y="62"/>
                  </a:cubicBezTo>
                  <a:cubicBezTo>
                    <a:pt x="249" y="58"/>
                    <a:pt x="249" y="58"/>
                    <a:pt x="249" y="58"/>
                  </a:cubicBezTo>
                  <a:cubicBezTo>
                    <a:pt x="257" y="54"/>
                    <a:pt x="257" y="54"/>
                    <a:pt x="257" y="54"/>
                  </a:cubicBezTo>
                  <a:cubicBezTo>
                    <a:pt x="265" y="50"/>
                    <a:pt x="265" y="50"/>
                    <a:pt x="265" y="50"/>
                  </a:cubicBezTo>
                  <a:cubicBezTo>
                    <a:pt x="273" y="46"/>
                    <a:pt x="273" y="46"/>
                    <a:pt x="273" y="46"/>
                  </a:cubicBezTo>
                  <a:cubicBezTo>
                    <a:pt x="280" y="42"/>
                    <a:pt x="280" y="42"/>
                    <a:pt x="280" y="42"/>
                  </a:cubicBezTo>
                  <a:cubicBezTo>
                    <a:pt x="289" y="39"/>
                    <a:pt x="289" y="39"/>
                    <a:pt x="289" y="39"/>
                  </a:cubicBezTo>
                  <a:cubicBezTo>
                    <a:pt x="297" y="35"/>
                    <a:pt x="297" y="35"/>
                    <a:pt x="297" y="35"/>
                  </a:cubicBezTo>
                  <a:cubicBezTo>
                    <a:pt x="305" y="32"/>
                    <a:pt x="305" y="32"/>
                    <a:pt x="305" y="32"/>
                  </a:cubicBezTo>
                  <a:cubicBezTo>
                    <a:pt x="314" y="28"/>
                    <a:pt x="314" y="28"/>
                    <a:pt x="314" y="28"/>
                  </a:cubicBezTo>
                  <a:cubicBezTo>
                    <a:pt x="322" y="26"/>
                    <a:pt x="322" y="26"/>
                    <a:pt x="322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40" y="20"/>
                    <a:pt x="340" y="20"/>
                    <a:pt x="340" y="2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57" y="15"/>
                    <a:pt x="357" y="15"/>
                    <a:pt x="357" y="15"/>
                  </a:cubicBezTo>
                  <a:cubicBezTo>
                    <a:pt x="365" y="13"/>
                    <a:pt x="365" y="13"/>
                    <a:pt x="365" y="13"/>
                  </a:cubicBezTo>
                  <a:cubicBezTo>
                    <a:pt x="374" y="11"/>
                    <a:pt x="374" y="11"/>
                    <a:pt x="374" y="11"/>
                  </a:cubicBezTo>
                  <a:cubicBezTo>
                    <a:pt x="383" y="9"/>
                    <a:pt x="383" y="9"/>
                    <a:pt x="383" y="9"/>
                  </a:cubicBezTo>
                  <a:cubicBezTo>
                    <a:pt x="392" y="7"/>
                    <a:pt x="392" y="7"/>
                    <a:pt x="392" y="7"/>
                  </a:cubicBezTo>
                  <a:cubicBezTo>
                    <a:pt x="401" y="6"/>
                    <a:pt x="401" y="6"/>
                    <a:pt x="401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20" y="4"/>
                    <a:pt x="420" y="4"/>
                    <a:pt x="420" y="4"/>
                  </a:cubicBezTo>
                  <a:cubicBezTo>
                    <a:pt x="429" y="2"/>
                    <a:pt x="429" y="2"/>
                    <a:pt x="429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7" y="0"/>
                    <a:pt x="447" y="0"/>
                    <a:pt x="447" y="0"/>
                  </a:cubicBezTo>
                  <a:cubicBezTo>
                    <a:pt x="457" y="0"/>
                    <a:pt x="457" y="0"/>
                    <a:pt x="457" y="0"/>
                  </a:cubicBezTo>
                  <a:cubicBezTo>
                    <a:pt x="466" y="0"/>
                    <a:pt x="466" y="0"/>
                    <a:pt x="466" y="0"/>
                  </a:cubicBezTo>
                  <a:cubicBezTo>
                    <a:pt x="476" y="0"/>
                    <a:pt x="476" y="0"/>
                    <a:pt x="476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495" y="0"/>
                    <a:pt x="495" y="0"/>
                    <a:pt x="495" y="0"/>
                  </a:cubicBezTo>
                  <a:cubicBezTo>
                    <a:pt x="504" y="0"/>
                    <a:pt x="504" y="0"/>
                    <a:pt x="504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1" y="4"/>
                    <a:pt x="541" y="4"/>
                    <a:pt x="541" y="4"/>
                  </a:cubicBezTo>
                  <a:cubicBezTo>
                    <a:pt x="550" y="6"/>
                    <a:pt x="550" y="6"/>
                    <a:pt x="550" y="6"/>
                  </a:cubicBezTo>
                  <a:cubicBezTo>
                    <a:pt x="559" y="7"/>
                    <a:pt x="559" y="7"/>
                    <a:pt x="559" y="7"/>
                  </a:cubicBezTo>
                  <a:cubicBezTo>
                    <a:pt x="568" y="9"/>
                    <a:pt x="568" y="9"/>
                    <a:pt x="568" y="9"/>
                  </a:cubicBezTo>
                  <a:cubicBezTo>
                    <a:pt x="577" y="11"/>
                    <a:pt x="577" y="11"/>
                    <a:pt x="577" y="11"/>
                  </a:cubicBezTo>
                  <a:cubicBezTo>
                    <a:pt x="586" y="13"/>
                    <a:pt x="586" y="13"/>
                    <a:pt x="586" y="13"/>
                  </a:cubicBezTo>
                  <a:cubicBezTo>
                    <a:pt x="595" y="15"/>
                    <a:pt x="595" y="15"/>
                    <a:pt x="595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3" y="20"/>
                    <a:pt x="613" y="20"/>
                    <a:pt x="613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9" y="26"/>
                    <a:pt x="629" y="26"/>
                    <a:pt x="629" y="26"/>
                  </a:cubicBezTo>
                  <a:cubicBezTo>
                    <a:pt x="638" y="28"/>
                    <a:pt x="638" y="28"/>
                    <a:pt x="638" y="28"/>
                  </a:cubicBezTo>
                  <a:cubicBezTo>
                    <a:pt x="646" y="32"/>
                    <a:pt x="646" y="32"/>
                    <a:pt x="646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3" y="39"/>
                    <a:pt x="663" y="39"/>
                    <a:pt x="663" y="39"/>
                  </a:cubicBezTo>
                  <a:cubicBezTo>
                    <a:pt x="671" y="42"/>
                    <a:pt x="671" y="42"/>
                    <a:pt x="671" y="42"/>
                  </a:cubicBezTo>
                  <a:cubicBezTo>
                    <a:pt x="679" y="46"/>
                    <a:pt x="679" y="46"/>
                    <a:pt x="679" y="46"/>
                  </a:cubicBezTo>
                  <a:cubicBezTo>
                    <a:pt x="687" y="50"/>
                    <a:pt x="687" y="50"/>
                    <a:pt x="687" y="50"/>
                  </a:cubicBezTo>
                  <a:cubicBezTo>
                    <a:pt x="695" y="54"/>
                    <a:pt x="695" y="54"/>
                    <a:pt x="695" y="54"/>
                  </a:cubicBezTo>
                  <a:cubicBezTo>
                    <a:pt x="703" y="58"/>
                    <a:pt x="703" y="58"/>
                    <a:pt x="703" y="58"/>
                  </a:cubicBezTo>
                  <a:cubicBezTo>
                    <a:pt x="711" y="62"/>
                    <a:pt x="711" y="62"/>
                    <a:pt x="711" y="62"/>
                  </a:cubicBezTo>
                  <a:cubicBezTo>
                    <a:pt x="719" y="67"/>
                    <a:pt x="719" y="67"/>
                    <a:pt x="719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8" y="86"/>
                    <a:pt x="748" y="86"/>
                    <a:pt x="748" y="86"/>
                  </a:cubicBezTo>
                  <a:cubicBezTo>
                    <a:pt x="755" y="91"/>
                    <a:pt x="755" y="91"/>
                    <a:pt x="755" y="91"/>
                  </a:cubicBezTo>
                  <a:cubicBezTo>
                    <a:pt x="762" y="96"/>
                    <a:pt x="762" y="96"/>
                    <a:pt x="762" y="96"/>
                  </a:cubicBezTo>
                  <a:cubicBezTo>
                    <a:pt x="769" y="101"/>
                    <a:pt x="769" y="101"/>
                    <a:pt x="769" y="101"/>
                  </a:cubicBezTo>
                  <a:cubicBezTo>
                    <a:pt x="776" y="107"/>
                    <a:pt x="776" y="107"/>
                    <a:pt x="776" y="107"/>
                  </a:cubicBezTo>
                  <a:cubicBezTo>
                    <a:pt x="783" y="112"/>
                    <a:pt x="783" y="112"/>
                    <a:pt x="783" y="112"/>
                  </a:cubicBezTo>
                  <a:cubicBezTo>
                    <a:pt x="790" y="118"/>
                    <a:pt x="790" y="118"/>
                    <a:pt x="790" y="118"/>
                  </a:cubicBezTo>
                  <a:cubicBezTo>
                    <a:pt x="796" y="124"/>
                    <a:pt x="796" y="124"/>
                    <a:pt x="796" y="124"/>
                  </a:cubicBezTo>
                  <a:cubicBezTo>
                    <a:pt x="802" y="131"/>
                    <a:pt x="802" y="131"/>
                    <a:pt x="802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5" y="143"/>
                    <a:pt x="815" y="143"/>
                    <a:pt x="815" y="143"/>
                  </a:cubicBezTo>
                  <a:cubicBezTo>
                    <a:pt x="821" y="149"/>
                    <a:pt x="821" y="149"/>
                    <a:pt x="821" y="149"/>
                  </a:cubicBezTo>
                  <a:cubicBezTo>
                    <a:pt x="827" y="156"/>
                    <a:pt x="827" y="156"/>
                    <a:pt x="827" y="156"/>
                  </a:cubicBezTo>
                  <a:cubicBezTo>
                    <a:pt x="833" y="161"/>
                    <a:pt x="833" y="161"/>
                    <a:pt x="833" y="161"/>
                  </a:cubicBezTo>
                  <a:cubicBezTo>
                    <a:pt x="839" y="168"/>
                    <a:pt x="839" y="168"/>
                    <a:pt x="839" y="168"/>
                  </a:cubicBezTo>
                  <a:cubicBezTo>
                    <a:pt x="844" y="175"/>
                    <a:pt x="844" y="175"/>
                    <a:pt x="844" y="175"/>
                  </a:cubicBezTo>
                  <a:cubicBezTo>
                    <a:pt x="850" y="182"/>
                    <a:pt x="850" y="182"/>
                    <a:pt x="850" y="182"/>
                  </a:cubicBezTo>
                  <a:cubicBezTo>
                    <a:pt x="855" y="189"/>
                    <a:pt x="855" y="189"/>
                    <a:pt x="855" y="189"/>
                  </a:cubicBezTo>
                  <a:cubicBezTo>
                    <a:pt x="860" y="196"/>
                    <a:pt x="860" y="196"/>
                    <a:pt x="860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70" y="211"/>
                    <a:pt x="870" y="211"/>
                    <a:pt x="870" y="211"/>
                  </a:cubicBezTo>
                  <a:cubicBezTo>
                    <a:pt x="876" y="218"/>
                    <a:pt x="876" y="218"/>
                    <a:pt x="876" y="218"/>
                  </a:cubicBezTo>
                  <a:cubicBezTo>
                    <a:pt x="880" y="225"/>
                    <a:pt x="880" y="225"/>
                    <a:pt x="880" y="225"/>
                  </a:cubicBezTo>
                  <a:cubicBezTo>
                    <a:pt x="884" y="233"/>
                    <a:pt x="884" y="233"/>
                    <a:pt x="884" y="233"/>
                  </a:cubicBezTo>
                  <a:cubicBezTo>
                    <a:pt x="889" y="240"/>
                    <a:pt x="889" y="240"/>
                    <a:pt x="889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1" y="264"/>
                    <a:pt x="901" y="264"/>
                    <a:pt x="901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916" y="297"/>
                    <a:pt x="916" y="297"/>
                    <a:pt x="916" y="297"/>
                  </a:cubicBezTo>
                  <a:cubicBezTo>
                    <a:pt x="919" y="305"/>
                    <a:pt x="919" y="305"/>
                    <a:pt x="919" y="305"/>
                  </a:cubicBezTo>
                  <a:cubicBezTo>
                    <a:pt x="923" y="313"/>
                    <a:pt x="923" y="313"/>
                    <a:pt x="923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8" y="331"/>
                    <a:pt x="928" y="331"/>
                    <a:pt x="928" y="331"/>
                  </a:cubicBezTo>
                  <a:cubicBezTo>
                    <a:pt x="931" y="339"/>
                    <a:pt x="931" y="339"/>
                    <a:pt x="931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6" y="356"/>
                    <a:pt x="936" y="356"/>
                    <a:pt x="936" y="356"/>
                  </a:cubicBezTo>
                  <a:cubicBezTo>
                    <a:pt x="938" y="365"/>
                    <a:pt x="938" y="365"/>
                    <a:pt x="938" y="365"/>
                  </a:cubicBezTo>
                  <a:cubicBezTo>
                    <a:pt x="940" y="374"/>
                    <a:pt x="940" y="374"/>
                    <a:pt x="940" y="374"/>
                  </a:cubicBezTo>
                  <a:cubicBezTo>
                    <a:pt x="942" y="384"/>
                    <a:pt x="942" y="384"/>
                    <a:pt x="942" y="384"/>
                  </a:cubicBezTo>
                  <a:cubicBezTo>
                    <a:pt x="944" y="392"/>
                    <a:pt x="944" y="392"/>
                    <a:pt x="944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7" y="410"/>
                    <a:pt x="947" y="410"/>
                    <a:pt x="947" y="410"/>
                  </a:cubicBezTo>
                  <a:cubicBezTo>
                    <a:pt x="947" y="420"/>
                    <a:pt x="947" y="420"/>
                    <a:pt x="947" y="420"/>
                  </a:cubicBezTo>
                  <a:cubicBezTo>
                    <a:pt x="949" y="429"/>
                    <a:pt x="949" y="429"/>
                    <a:pt x="949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50" y="447"/>
                    <a:pt x="950" y="447"/>
                    <a:pt x="950" y="447"/>
                  </a:cubicBezTo>
                  <a:cubicBezTo>
                    <a:pt x="951" y="456"/>
                    <a:pt x="951" y="456"/>
                    <a:pt x="951" y="456"/>
                  </a:cubicBezTo>
                  <a:cubicBezTo>
                    <a:pt x="951" y="466"/>
                    <a:pt x="951" y="466"/>
                    <a:pt x="951" y="466"/>
                  </a:cubicBezTo>
                  <a:cubicBezTo>
                    <a:pt x="951" y="476"/>
                    <a:pt x="951" y="476"/>
                    <a:pt x="951" y="476"/>
                  </a:cubicBezTo>
                  <a:cubicBezTo>
                    <a:pt x="951" y="476"/>
                    <a:pt x="951" y="476"/>
                    <a:pt x="951" y="4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608440" y="5195160"/>
            <a:ext cx="99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chnical Confere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58240" y="5233680"/>
            <a:ext cx="84672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aturing CI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609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rd of Fea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4382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sted by: Lynn Clar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95280"/>
            <a:ext cx="80773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phere Data Inter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2BD494-EDDD-4351-A1C5-7BD8F63376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760" y="861840"/>
            <a:ext cx="8166960" cy="5182560"/>
            <a:chOff x="419760" y="861840"/>
            <a:chExt cx="8166960" cy="5182560"/>
          </a:xfrm>
        </p:grpSpPr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1589040" y="4844880"/>
              <a:ext cx="58752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"/>
            <a:stretch/>
          </p:blipFill>
          <p:spPr>
            <a:xfrm>
              <a:off x="689040" y="4844880"/>
              <a:ext cx="58716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19760" y="5737320"/>
              <a:ext cx="206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stributed Applic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3"/>
            <a:stretch/>
          </p:blipFill>
          <p:spPr>
            <a:xfrm>
              <a:off x="6311880" y="3532320"/>
              <a:ext cx="132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4"/>
            <a:stretch/>
          </p:blipFill>
          <p:spPr>
            <a:xfrm>
              <a:off x="6162840" y="4116240"/>
              <a:ext cx="67752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5"/>
            <a:stretch/>
          </p:blipFill>
          <p:spPr>
            <a:xfrm>
              <a:off x="676260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6"/>
            <a:stretch/>
          </p:blipFill>
          <p:spPr>
            <a:xfrm>
              <a:off x="736272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 flipH="1" flipV="1">
              <a:off x="5113080" y="3386160"/>
              <a:ext cx="1181160" cy="40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90240" y="31701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67840" y="4719600"/>
              <a:ext cx="1067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Multi-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Cloud"/>
            <p:cNvSpPr/>
            <p:nvPr/>
          </p:nvSpPr>
          <p:spPr>
            <a:xfrm>
              <a:off x="6627960" y="861840"/>
              <a:ext cx="1896840" cy="1236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Cloud"/>
            <p:cNvSpPr/>
            <p:nvPr/>
          </p:nvSpPr>
          <p:spPr>
            <a:xfrm>
              <a:off x="6311880" y="1417680"/>
              <a:ext cx="1725480" cy="11239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80720" y="162576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DI 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88240" y="936720"/>
              <a:ext cx="1698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usiness Exchange Service (Internet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5413320" y="2511000"/>
              <a:ext cx="1724040" cy="219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3" name="" descr=""/>
            <p:cNvPicPr/>
            <p:nvPr/>
          </p:nvPicPr>
          <p:blipFill>
            <a:blip r:embed="rId7"/>
            <a:stretch/>
          </p:blipFill>
          <p:spPr>
            <a:xfrm>
              <a:off x="3987720" y="4484520"/>
              <a:ext cx="16527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4107240" y="552132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4683000">
              <a:off x="3430800" y="4083840"/>
              <a:ext cx="1114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5600" y="3532320"/>
              <a:ext cx="116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SO Session  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ICS Transac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98920" y="47386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313080" y="1624680"/>
              <a:ext cx="2401920" cy="2112120"/>
              <a:chOff x="3313080" y="1624680"/>
              <a:chExt cx="2401920" cy="2112120"/>
            </a:xfrm>
          </p:grpSpPr>
          <p:pic>
            <p:nvPicPr>
              <p:cNvPr id="64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13080" y="1636560"/>
                <a:ext cx="240192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9723800">
                <a:off x="3466080" y="243180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OS/39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814400">
                <a:off x="4833720" y="177264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z/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39520" y="20754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32ef7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9761600">
                <a:off x="4704480" y="299340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1568200">
                <a:off x="4438800" y="2729880"/>
                <a:ext cx="583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V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IC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B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9686000">
                <a:off x="3649680" y="3047040"/>
                <a:ext cx="23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6" name="Cloud"/>
            <p:cNvSpPr/>
            <p:nvPr/>
          </p:nvSpPr>
          <p:spPr>
            <a:xfrm>
              <a:off x="1063800" y="1552680"/>
              <a:ext cx="1500120" cy="97776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14520" y="2219400"/>
              <a:ext cx="97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66680" y="1676520"/>
              <a:ext cx="144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BI-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914400" y="3532320"/>
              <a:ext cx="2473200" cy="131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889280" y="3605040"/>
              <a:ext cx="1649160" cy="1239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9751400">
              <a:off x="1915560" y="41767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838680" y="3677760"/>
              <a:ext cx="374400" cy="145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140000">
              <a:off x="5132160" y="3344400"/>
              <a:ext cx="11588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1179400">
              <a:off x="5712480" y="2368440"/>
              <a:ext cx="9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edite/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719680" y="1428480"/>
              <a:ext cx="887400" cy="833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FEF9-55F7-47F0-BDA7-990DE7E4AD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989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OS/390 &amp;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1640" y="14108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ystem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/390 v2r8 (5647-A01) or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v1 (ESA/390 mode) (5694-A01) or la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OS/390 Version 1.3 or later (5655-14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z/OS Version 2.2 (5697-E9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v7 and higher for z/OS and OS/3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Connect Personal Edition v7.2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XML Toolkit for z/OS &amp; OS/390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atch)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1.3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downloa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bm.com/servers/eserver/zseries/software/xml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A17A-AFA3-4D8B-8D75-8BA7237E1C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5334120" y="3428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buildtime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012680" y="2030400"/>
            <a:ext cx="3276720" cy="1971720"/>
            <a:chOff x="1012680" y="2030400"/>
            <a:chExt cx="3276720" cy="1971720"/>
          </a:xfrm>
        </p:grpSpPr>
        <p:sp>
          <p:nvSpPr>
            <p:cNvPr id="671" name="laptop"/>
            <p:cNvSpPr/>
            <p:nvPr/>
          </p:nvSpPr>
          <p:spPr>
            <a:xfrm>
              <a:off x="1012680" y="2030400"/>
              <a:ext cx="3276720" cy="1971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52760" y="2133720"/>
              <a:ext cx="2057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WebSpher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DI C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6473880" y="1989000"/>
            <a:ext cx="2260440" cy="1378080"/>
            <a:chOff x="6473880" y="1989000"/>
            <a:chExt cx="2260440" cy="1378080"/>
          </a:xfrm>
        </p:grpSpPr>
        <p:sp>
          <p:nvSpPr>
            <p:cNvPr id="674" name="laptop"/>
            <p:cNvSpPr/>
            <p:nvPr/>
          </p:nvSpPr>
          <p:spPr>
            <a:xfrm>
              <a:off x="6473880" y="1989000"/>
              <a:ext cx="2260440" cy="1378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15240" y="2059920"/>
              <a:ext cx="141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072fa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95240" y="1209600"/>
            <a:ext cx="76485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mmon user interface to 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indows 2000 or XP based, GUI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user or multi-user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-alone 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any clients can be connected concurrently to the sam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and Target base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Mapping Vocabu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g ‘n Drop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CAA09-590C-470E-A75A-3DD967C8BA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Client: Tooling and Administ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857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to develop and manag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mats (application data defin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s and D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 wizard used to create new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hoose data transformation source/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map is set of instructions to translate data from one format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the description of meta-data format definitions i.e.,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s are compiled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89FFB-2C5E-45DD-A572-CB6B002E00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06000" y="1193760"/>
            <a:ext cx="8384040" cy="4903200"/>
            <a:chOff x="306000" y="1193760"/>
            <a:chExt cx="8384040" cy="4903200"/>
          </a:xfrm>
        </p:grpSpPr>
        <p:sp>
          <p:nvSpPr>
            <p:cNvPr id="682" name=""/>
            <p:cNvSpPr/>
            <p:nvPr/>
          </p:nvSpPr>
          <p:spPr>
            <a:xfrm>
              <a:off x="549000" y="411480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5760" y="50832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93920" y="5532480"/>
              <a:ext cx="17874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Any DB suppor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ODBC v2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841320" y="2428920"/>
              <a:ext cx="1809720" cy="1361880"/>
              <a:chOff x="841320" y="2428920"/>
              <a:chExt cx="1809720" cy="1361880"/>
            </a:xfrm>
          </p:grpSpPr>
          <p:sp>
            <p:nvSpPr>
              <p:cNvPr id="686" name="laptop"/>
              <p:cNvSpPr/>
              <p:nvPr/>
            </p:nvSpPr>
            <p:spPr>
              <a:xfrm>
                <a:off x="841320" y="2428920"/>
                <a:ext cx="1809720" cy="136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46240" y="2505240"/>
                <a:ext cx="1218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DI Clie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(1 or more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1184400" y="5019840"/>
              <a:ext cx="95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5000" y="433404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9936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0260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9120" y="179388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3520" y="3673440"/>
              <a:ext cx="83808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1821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10080" y="4405320"/>
              <a:ext cx="1600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5440" y="1946160"/>
              <a:ext cx="2438280" cy="76212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10040" y="210672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7394400" y="270828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07280" y="5021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3652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0364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2752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65200" y="3038400"/>
              <a:ext cx="83844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60840" y="303840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84720" y="3038400"/>
              <a:ext cx="2286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13320" y="3038400"/>
              <a:ext cx="0" cy="137160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0800" y="2657520"/>
              <a:ext cx="66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13120" y="2657520"/>
              <a:ext cx="785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Trans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13320" y="4029120"/>
              <a:ext cx="73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6600" y="4334040"/>
              <a:ext cx="457200" cy="685800"/>
            </a:xfrm>
            <a:prstGeom prst="flowChartMagneticDisk">
              <a:avLst/>
            </a:prstGeom>
            <a:solidFill>
              <a:srgbClr val="0000ff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08000" y="501984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4404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6000" y="1560600"/>
              <a:ext cx="289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Stand-Alone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74800" y="366228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89280" y="4270320"/>
              <a:ext cx="9144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40040" y="4240080"/>
              <a:ext cx="833400" cy="12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49320" y="4260960"/>
              <a:ext cx="1074960" cy="1306440"/>
            </a:xfrm>
            <a:prstGeom prst="rect">
              <a:avLst/>
            </a:prstGeom>
            <a:noFill/>
            <a:ln w="442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05520" y="3568680"/>
              <a:ext cx="107496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04200" y="509436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DED8-E480-4423-A4B5-D8EE2B2DAF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9280" y="1193760"/>
            <a:ext cx="8417520" cy="4523040"/>
            <a:chOff x="269280" y="1193760"/>
            <a:chExt cx="8417520" cy="4523040"/>
          </a:xfrm>
        </p:grpSpPr>
        <p:sp>
          <p:nvSpPr>
            <p:cNvPr id="722" name="laptop"/>
            <p:cNvSpPr/>
            <p:nvPr/>
          </p:nvSpPr>
          <p:spPr>
            <a:xfrm>
              <a:off x="609480" y="2666880"/>
              <a:ext cx="1809720" cy="136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274320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29000" y="2971800"/>
              <a:ext cx="1828800" cy="457200"/>
            </a:xfrm>
            <a:prstGeom prst="flowChartProcess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iddlew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DB2 Connect P.E. v7.2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06600" y="29718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3720" y="3200400"/>
              <a:ext cx="129528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5880" y="179064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3695760"/>
              <a:ext cx="83844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64200" y="4062240"/>
              <a:ext cx="98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7080" y="3429000"/>
              <a:ext cx="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67080" y="4648320"/>
              <a:ext cx="2743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72200" y="1943280"/>
              <a:ext cx="2438280" cy="76176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391520" y="2705040"/>
              <a:ext cx="0" cy="9907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40800" y="2895480"/>
              <a:ext cx="744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/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75960" y="4343400"/>
              <a:ext cx="116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Middle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43360" y="342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8560" y="2608200"/>
              <a:ext cx="152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n PC or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9280" y="1635120"/>
              <a:ext cx="316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Client / Server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20" y="457200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600" y="52578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990720" y="403848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99360" y="411480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33400" y="3711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04080" y="3629160"/>
              <a:ext cx="107460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10680" y="508320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708200" y="4413240"/>
              <a:ext cx="584280" cy="901440"/>
              <a:chOff x="1708200" y="4413240"/>
              <a:chExt cx="584280" cy="901440"/>
            </a:xfrm>
          </p:grpSpPr>
          <p:sp>
            <p:nvSpPr>
              <p:cNvPr id="748" name=""/>
              <p:cNvSpPr/>
              <p:nvPr/>
            </p:nvSpPr>
            <p:spPr>
              <a:xfrm>
                <a:off x="1708200" y="4419360"/>
                <a:ext cx="584280" cy="8953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1708200" y="4420800"/>
                <a:ext cx="573840" cy="87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708200" y="4413240"/>
                <a:ext cx="567720" cy="88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2354400" y="469116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F80A-4377-409B-8A39-2AD38A8826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3" name="laptop"/>
          <p:cNvSpPr/>
          <p:nvPr/>
        </p:nvSpPr>
        <p:spPr>
          <a:xfrm>
            <a:off x="609480" y="266688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274320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DI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 or mo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29000" y="2971800"/>
            <a:ext cx="1828800" cy="457200"/>
          </a:xfrm>
          <a:prstGeom prst="flowChartProcess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DB2 Connect P.E. v7.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206600" y="29718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133720" y="3200400"/>
            <a:ext cx="1295280" cy="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1790640"/>
            <a:ext cx="2590920" cy="3276720"/>
          </a:xfrm>
          <a:prstGeom prst="rect">
            <a:avLst/>
          </a:prstGeom>
          <a:noFill/>
          <a:ln cap="sq" w="190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3695760"/>
            <a:ext cx="838440" cy="1143000"/>
          </a:xfrm>
          <a:prstGeom prst="flowChartMagneticDisk">
            <a:avLst/>
          </a:prstGeom>
          <a:solidFill>
            <a:srgbClr val="0000cc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64200" y="406224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67080" y="3429000"/>
            <a:ext cx="0" cy="1219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4648320"/>
            <a:ext cx="274320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1943280"/>
            <a:ext cx="2438280" cy="761760"/>
          </a:xfrm>
          <a:prstGeom prst="rect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DI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7391520" y="2705040"/>
            <a:ext cx="0" cy="990720"/>
          </a:xfrm>
          <a:prstGeom prst="line">
            <a:avLst/>
          </a:prstGeom>
          <a:ln cap="sq"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73200" y="2673360"/>
            <a:ext cx="74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/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5960" y="43434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Middle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43360" y="34290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8560" y="260820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n PC or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160" y="1177920"/>
            <a:ext cx="31694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db6b3"/>
                </a:solidFill>
                <a:uFillTx/>
                <a:latin typeface="Times New Roman"/>
              </a:rPr>
              <a:t>Client / Server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amp; Local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4572000"/>
            <a:ext cx="457200" cy="685800"/>
          </a:xfrm>
          <a:prstGeom prst="flowChartMagneticDisk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7600" y="52578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Confi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990720" y="4038480"/>
            <a:ext cx="0" cy="53352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99360" y="411480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60040" y="119376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Times New Roman"/>
              </a:rPr>
              <a:t>Test /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133400" y="371160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B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04080" y="3629160"/>
            <a:ext cx="1074600" cy="1306440"/>
          </a:xfrm>
          <a:prstGeom prst="rect">
            <a:avLst/>
          </a:prstGeom>
          <a:noFill/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0680" y="5083200"/>
            <a:ext cx="1631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Arial"/>
              </a:rPr>
              <a:t>W2K, AIX, z/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803240" y="4047840"/>
            <a:ext cx="0" cy="53316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3720" y="4591080"/>
            <a:ext cx="457200" cy="685800"/>
          </a:xfrm>
          <a:prstGeom prst="flowChartMagneticDisk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66720" y="5221440"/>
            <a:ext cx="543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940120" y="5202360"/>
            <a:ext cx="256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ifferent DBs can be setup i.e.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bf09"/>
                </a:solidFill>
                <a:latin typeface="Times New Roman"/>
                <a:ea typeface="Arial"/>
              </a:rPr>
              <a:t>Development system (loc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Test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Production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2075040" y="5087520"/>
            <a:ext cx="955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402160" y="4865400"/>
            <a:ext cx="1871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975200" y="4830840"/>
            <a:ext cx="220176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085840" y="3482640"/>
            <a:ext cx="1479600" cy="1330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7C69-155A-4DB9-A14E-A996597C97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320" y="2895480"/>
            <a:ext cx="5588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nd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601344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Data 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On Web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http://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raining and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25176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9CB40-4B6E-45D3-8D7A-77DB95B8AC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743280" y="5430960"/>
            <a:ext cx="555840" cy="477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0960" y="5403960"/>
            <a:ext cx="511200" cy="509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5419800"/>
            <a:ext cx="511200" cy="506160"/>
          </a:xfrm>
          <a:prstGeom prst="octagon">
            <a:avLst>
              <a:gd name="adj" fmla="val 29287"/>
            </a:avLst>
          </a:prstGeom>
          <a:solidFill>
            <a:srgbClr val="ffa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6240" y="5446800"/>
            <a:ext cx="512640" cy="469800"/>
          </a:xfrm>
          <a:prstGeom prst="rect">
            <a:avLst/>
          </a:prstGeom>
          <a:solidFill>
            <a:srgbClr val="c5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89160" y="5419800"/>
            <a:ext cx="509400" cy="504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922400" y="5403960"/>
            <a:ext cx="507600" cy="505800"/>
            <a:chOff x="1922400" y="5403960"/>
            <a:chExt cx="507600" cy="505800"/>
          </a:xfrm>
        </p:grpSpPr>
        <p:sp>
          <p:nvSpPr>
            <p:cNvPr id="379" name=""/>
            <p:cNvSpPr/>
            <p:nvPr/>
          </p:nvSpPr>
          <p:spPr>
            <a:xfrm>
              <a:off x="1922400" y="5403960"/>
              <a:ext cx="502560" cy="494640"/>
            </a:xfrm>
            <a:prstGeom prst="ellipse">
              <a:avLst/>
            </a:prstGeom>
            <a:solidFill>
              <a:srgbClr val="49e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26360" y="5410080"/>
              <a:ext cx="503640" cy="499680"/>
            </a:xfrm>
            <a:prstGeom prst="ellipse">
              <a:avLst/>
            </a:prstGeom>
            <a:solidFill>
              <a:srgbClr val="30c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52880" y="5446800"/>
            <a:ext cx="515880" cy="469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6052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9568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0840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41760" y="5527800"/>
            <a:ext cx="203400" cy="20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75040" y="55260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746520" y="5429160"/>
            <a:ext cx="549000" cy="474840"/>
            <a:chOff x="3746520" y="5429160"/>
            <a:chExt cx="549000" cy="474840"/>
          </a:xfrm>
        </p:grpSpPr>
        <p:sp>
          <p:nvSpPr>
            <p:cNvPr id="388" name=""/>
            <p:cNvSpPr/>
            <p:nvPr/>
          </p:nvSpPr>
          <p:spPr>
            <a:xfrm>
              <a:off x="37465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537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919680" y="55404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5353200"/>
            <a:ext cx="53352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7720" y="5353200"/>
            <a:ext cx="519120" cy="214200"/>
          </a:xfrm>
          <a:custGeom>
            <a:avLst/>
            <a:gdLst/>
            <a:ahLst/>
            <a:rect l="l" t="t" r="r" b="b"/>
            <a:pathLst>
              <a:path w="485" h="203">
                <a:moveTo>
                  <a:pt x="0" y="2"/>
                </a:moveTo>
                <a:lnTo>
                  <a:pt x="0" y="186"/>
                </a:lnTo>
                <a:lnTo>
                  <a:pt x="20" y="186"/>
                </a:lnTo>
                <a:lnTo>
                  <a:pt x="33" y="162"/>
                </a:lnTo>
                <a:lnTo>
                  <a:pt x="48" y="141"/>
                </a:lnTo>
                <a:lnTo>
                  <a:pt x="65" y="122"/>
                </a:lnTo>
                <a:lnTo>
                  <a:pt x="87" y="101"/>
                </a:lnTo>
                <a:lnTo>
                  <a:pt x="116" y="81"/>
                </a:lnTo>
                <a:lnTo>
                  <a:pt x="144" y="68"/>
                </a:lnTo>
                <a:lnTo>
                  <a:pt x="165" y="60"/>
                </a:lnTo>
                <a:lnTo>
                  <a:pt x="194" y="51"/>
                </a:lnTo>
                <a:lnTo>
                  <a:pt x="237" y="47"/>
                </a:lnTo>
                <a:lnTo>
                  <a:pt x="275" y="51"/>
                </a:lnTo>
                <a:lnTo>
                  <a:pt x="300" y="54"/>
                </a:lnTo>
                <a:lnTo>
                  <a:pt x="332" y="66"/>
                </a:lnTo>
                <a:lnTo>
                  <a:pt x="372" y="87"/>
                </a:lnTo>
                <a:lnTo>
                  <a:pt x="408" y="116"/>
                </a:lnTo>
                <a:lnTo>
                  <a:pt x="441" y="153"/>
                </a:lnTo>
                <a:lnTo>
                  <a:pt x="464" y="192"/>
                </a:lnTo>
                <a:lnTo>
                  <a:pt x="468" y="203"/>
                </a:lnTo>
                <a:lnTo>
                  <a:pt x="485" y="203"/>
                </a:lnTo>
                <a:lnTo>
                  <a:pt x="485" y="0"/>
                </a:lnTo>
                <a:lnTo>
                  <a:pt x="0" y="2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9000" y="5353200"/>
            <a:ext cx="53496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52880" y="5357880"/>
            <a:ext cx="51588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86240" y="5357880"/>
            <a:ext cx="51264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5600" y="5354640"/>
            <a:ext cx="512640" cy="190440"/>
          </a:xfrm>
          <a:custGeom>
            <a:avLst/>
            <a:gdLst/>
            <a:ahLst/>
            <a:rect l="l" t="t" r="r" b="b"/>
            <a:pathLst>
              <a:path w="478" h="180">
                <a:moveTo>
                  <a:pt x="0" y="0"/>
                </a:moveTo>
                <a:lnTo>
                  <a:pt x="478" y="0"/>
                </a:lnTo>
                <a:lnTo>
                  <a:pt x="478" y="178"/>
                </a:lnTo>
                <a:lnTo>
                  <a:pt x="313" y="178"/>
                </a:lnTo>
                <a:lnTo>
                  <a:pt x="240" y="54"/>
                </a:lnTo>
                <a:lnTo>
                  <a:pt x="168" y="180"/>
                </a:lnTo>
                <a:lnTo>
                  <a:pt x="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8520" y="5110200"/>
            <a:ext cx="3595680" cy="23976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90640" y="1808280"/>
            <a:ext cx="6921360" cy="30384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2811600" y="393696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5400000">
            <a:off x="5567400" y="3940200"/>
            <a:ext cx="32688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5400000">
            <a:off x="4162320" y="394488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655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93960" y="2576520"/>
            <a:ext cx="1305000" cy="150012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223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33360" y="4714920"/>
            <a:ext cx="136800" cy="366480"/>
            <a:chOff x="3033360" y="4714920"/>
            <a:chExt cx="136800" cy="366480"/>
          </a:xfrm>
        </p:grpSpPr>
        <p:sp>
          <p:nvSpPr>
            <p:cNvPr id="406" name=""/>
            <p:cNvSpPr/>
            <p:nvPr/>
          </p:nvSpPr>
          <p:spPr>
            <a:xfrm rot="5400000">
              <a:off x="2931840" y="481644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33720" y="503280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rot="5400000">
            <a:off x="6908760" y="3941640"/>
            <a:ext cx="31104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1460160" y="3927240"/>
            <a:ext cx="33660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32040" y="4208400"/>
            <a:ext cx="6646680" cy="5079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7240" y="2631960"/>
            <a:ext cx="787320" cy="63972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758880" y="2906640"/>
            <a:ext cx="864720" cy="55440"/>
            <a:chOff x="758880" y="2906640"/>
            <a:chExt cx="864720" cy="55440"/>
          </a:xfrm>
        </p:grpSpPr>
        <p:sp>
          <p:nvSpPr>
            <p:cNvPr id="413" name=""/>
            <p:cNvSpPr/>
            <p:nvPr/>
          </p:nvSpPr>
          <p:spPr>
            <a:xfrm>
              <a:off x="758880" y="2906640"/>
              <a:ext cx="37080" cy="536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8"/>
                  </a:moveTo>
                  <a:cubicBezTo>
                    <a:pt x="12" y="48"/>
                    <a:pt x="23" y="48"/>
                    <a:pt x="35" y="48"/>
                  </a:cubicBezTo>
                  <a:lnTo>
                    <a:pt x="35" y="2"/>
                  </a:lnTo>
                  <a:lnTo>
                    <a:pt x="11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1120" y="2907360"/>
              <a:ext cx="852480" cy="5472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326360" y="2933640"/>
            <a:ext cx="852480" cy="5400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26360" y="3530520"/>
            <a:ext cx="8524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0310600">
            <a:off x="8132400" y="3458880"/>
            <a:ext cx="473040" cy="363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66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508400">
            <a:off x="8181720" y="3645000"/>
            <a:ext cx="56196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3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7940520" y="3741840"/>
            <a:ext cx="55584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96400" y="2549520"/>
            <a:ext cx="642960" cy="47484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e4d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448840" y="3125880"/>
            <a:ext cx="42372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05760" y="3781440"/>
            <a:ext cx="422280" cy="3142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d18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75640" y="3516480"/>
            <a:ext cx="42228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29240" y="2568600"/>
            <a:ext cx="1305000" cy="1517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320" y="3556080"/>
            <a:ext cx="8542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74080" y="3435480"/>
            <a:ext cx="250920" cy="214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60480" y="2577960"/>
            <a:ext cx="1297080" cy="150048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69360" y="4210200"/>
            <a:ext cx="125280" cy="50616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68280" y="3336840"/>
            <a:ext cx="343080" cy="49392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1139760" y="4344840"/>
            <a:ext cx="6297480" cy="239760"/>
            <a:chOff x="1139760" y="4344840"/>
            <a:chExt cx="6297480" cy="239760"/>
          </a:xfrm>
        </p:grpSpPr>
        <p:sp>
          <p:nvSpPr>
            <p:cNvPr id="431" name=""/>
            <p:cNvSpPr/>
            <p:nvPr/>
          </p:nvSpPr>
          <p:spPr>
            <a:xfrm>
              <a:off x="1140840" y="4344840"/>
              <a:ext cx="6296400" cy="23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39760" y="4345560"/>
              <a:ext cx="64080" cy="23796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306440" y="592920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lic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440" y="387360"/>
            <a:ext cx="7961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Business Integration Reference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97360" y="1395360"/>
            <a:ext cx="28191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 Tools,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09720" y="1343160"/>
            <a:ext cx="6912000" cy="344520"/>
          </a:xfrm>
          <a:prstGeom prst="rect">
            <a:avLst/>
          </a:prstGeom>
          <a:solidFill>
            <a:srgbClr val="5a8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01160" y="1365120"/>
            <a:ext cx="35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, Design, Development, Test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65160" y="2090880"/>
            <a:ext cx="6781680" cy="37116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403960" y="5470560"/>
          <a:ext cx="226224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3960" y="5470560"/>
                    <a:ext cx="2262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5253120" y="5102280"/>
            <a:ext cx="2503440" cy="3906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00600" y="588024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97080" y="1828800"/>
            <a:ext cx="4305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Runtime Infrastru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474960" y="4722840"/>
            <a:ext cx="136800" cy="366480"/>
            <a:chOff x="6474960" y="4722840"/>
            <a:chExt cx="136800" cy="366480"/>
          </a:xfrm>
        </p:grpSpPr>
        <p:sp>
          <p:nvSpPr>
            <p:cNvPr id="445" name=""/>
            <p:cNvSpPr/>
            <p:nvPr/>
          </p:nvSpPr>
          <p:spPr>
            <a:xfrm rot="5400000">
              <a:off x="6373440" y="482436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5320" y="504072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573280" y="814320"/>
            <a:ext cx="50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ll Architected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58080" y="13730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Stu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4720" y="14018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de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49720" y="226836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82680" y="3040200"/>
            <a:ext cx="15494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App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mme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HA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1160" y="3200400"/>
            <a:ext cx="13795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Porta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0" y="3124080"/>
            <a:ext cx="13716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nnect / W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87800" y="318456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usiness Integr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1280" y="3200400"/>
            <a:ext cx="15494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4400" y="4149720"/>
            <a:ext cx="22068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22400" y="4622760"/>
            <a:ext cx="38149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Event/Msg Bro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62600" y="415620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ervices Gatew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82640" y="501984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Adap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971800" y="4724280"/>
            <a:ext cx="228240" cy="380880"/>
            <a:chOff x="2971800" y="4724280"/>
            <a:chExt cx="228240" cy="380880"/>
          </a:xfrm>
        </p:grpSpPr>
        <p:sp>
          <p:nvSpPr>
            <p:cNvPr id="461" name=""/>
            <p:cNvSpPr/>
            <p:nvPr/>
          </p:nvSpPr>
          <p:spPr>
            <a:xfrm rot="5400000">
              <a:off x="290952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7180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458040" y="4724280"/>
            <a:ext cx="228240" cy="380880"/>
            <a:chOff x="6458040" y="4724280"/>
            <a:chExt cx="228240" cy="380880"/>
          </a:xfrm>
        </p:grpSpPr>
        <p:sp>
          <p:nvSpPr>
            <p:cNvPr id="464" name=""/>
            <p:cNvSpPr/>
            <p:nvPr/>
          </p:nvSpPr>
          <p:spPr>
            <a:xfrm rot="5400000">
              <a:off x="639576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804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040360" y="256212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73800" y="2567160"/>
            <a:ext cx="146700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Community Integr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3120" y="4329000"/>
            <a:ext cx="2819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92200" y="2590920"/>
            <a:ext cx="1151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pplic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2057400"/>
            <a:ext cx="4305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itoring 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40160" y="5180040"/>
            <a:ext cx="25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49320" y="2590920"/>
            <a:ext cx="128268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User Interac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59040" y="51656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255420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72200" y="5041800"/>
            <a:ext cx="2638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2590920"/>
            <a:ext cx="1371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24D75-1BB2-4D6B-AF82-CDD572E667D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Conferences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ansaction and Messag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e 14-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as Vegas Hil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Vegas, N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nual WDI/B2B Customer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3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rata Beach Resort and Conferenc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. Pete Beach, F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59704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31EC-4FC2-49E3-A4BC-C107852FEA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49320" y="2666880"/>
            <a:ext cx="6975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Windows 2000, AIX, z/O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- Summar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3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application suppor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 2000 Server, AIX and z/OS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ses a graphical user-interface as the development t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art of an application integration strategy, WDI (tooling)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data transformation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data files (incl. C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I X12, EDIFACT and Published Industry Sub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DTDs and Sch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tilizes an extensive mapping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is a complementary toolset within Web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Q as a transport between other WS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22431-2061-4463-A8A4-24F120F72D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inally: Where to get Information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34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WDI web sit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ucation:  Class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wn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ntenance/Fixp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DI Client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ve Schwartz, WW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818-539-35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schwart@us.ib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AF3D4-F443-45DE-BABF-E23CFD5DE3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T&amp;M Conference – oth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DI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related sess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Overview M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. 1:30; Wed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Trends and Dir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  3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69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with WebSphere Data Interchange in C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MQ and WMQ Integrator can leverage your WD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8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and XML in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B90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F –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6p – originally on W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7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INT Solutions with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8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and WMQ, Integration and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11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61872-56A9-4067-961E-81C0B1BCDD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2ed"/>
                </a:solidFill>
                <a:latin typeface="Arial"/>
              </a:rPr>
              <a:t>Available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1989 – IBM DataInterchange – OS/390 &amp; z/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2002 – Re-branded WebSphere Data Interchange – z/OS &amp; Multi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2ed"/>
                </a:solidFill>
                <a:latin typeface="Arial"/>
              </a:rPr>
              <a:t>WDI is a Data Transformation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Allows for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EDI (electronic data interchange) into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-based B2B capabilitie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provided by the WebSphere family, for a seamless, integrated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DI also transforms record oriented data into XML and vice-versa as part of an application integration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DCBFF-0BA6-41D9-A723-891B619C8A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34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Mapping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Cli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bd90b"/>
                </a:solidFill>
                <a:latin typeface="Arial"/>
              </a:rPr>
              <a:t>common user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Multiplatforms and z/OS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nd deploy maps, add Trading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Translatio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v3.2 Server (W2K, AIX and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22ed"/>
                </a:solidFill>
                <a:latin typeface="Arial"/>
              </a:rPr>
              <a:t>Provides translation of data from one format to another i.e. EDI (X12, EDIFACT), XML or Application Data Formats (User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pplication formats can be mapped directly to a standard, without intermediate formatting or programming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ustomize data standards to fit business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nage transactions securely and effici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tilize WebSphere MQ message queuing and other communications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tegrate with existing applications i.e. WebSphere MQ Integ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72440" y="1488960"/>
            <a:ext cx="1239840" cy="831960"/>
            <a:chOff x="7372440" y="1488960"/>
            <a:chExt cx="1239840" cy="831960"/>
          </a:xfrm>
        </p:grpSpPr>
        <p:sp>
          <p:nvSpPr>
            <p:cNvPr id="482" name="laptop"/>
            <p:cNvSpPr/>
            <p:nvPr/>
          </p:nvSpPr>
          <p:spPr>
            <a:xfrm>
              <a:off x="7372440" y="1488960"/>
              <a:ext cx="1239840" cy="831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13640" y="1531800"/>
              <a:ext cx="77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32ef7"/>
                  </a:solidFill>
                  <a:latin typeface="Times New Roman"/>
                </a:rPr>
                <a:t>WDI Cli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 rot="19761600">
            <a:off x="1368720" y="5300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1568200">
            <a:off x="1104480" y="50212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760680" cy="1311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V="1" rot="10800000">
            <a:off x="380880" y="563760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2ef7"/>
                </a:solidFill>
                <a:latin typeface="Times New Roman"/>
              </a:rPr>
              <a:t>WDI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883E-9F5F-46CA-9AE4-4A196E6EED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000"/>
            </a:b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52240" y="1907640"/>
            <a:ext cx="321300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819680" y="1776240"/>
            <a:ext cx="720720" cy="111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419720" y="4038480"/>
            <a:ext cx="1525320" cy="137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2" name=""/>
          <p:cNvSpPr/>
          <p:nvPr/>
        </p:nvSpPr>
        <p:spPr>
          <a:xfrm>
            <a:off x="4801680" y="5310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5600" y="1295280"/>
            <a:ext cx="20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IX or Win2000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811920" y="2719440"/>
            <a:ext cx="143532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6948360" y="3827520"/>
            <a:ext cx="196704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to A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E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SI X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/EDIFA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upport Pack for HIPA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T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hem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1699920" cy="1220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7" name=""/>
          <p:cNvSpPr/>
          <p:nvPr/>
        </p:nvSpPr>
        <p:spPr>
          <a:xfrm>
            <a:off x="1142640" y="414180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2000/X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6600" y="22860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3200400"/>
            <a:ext cx="2514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Server platfor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-runtime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1295280"/>
            <a:ext cx="1981080" cy="175284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3886200"/>
            <a:ext cx="2057400" cy="17524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048120"/>
            <a:ext cx="2286000" cy="8380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45929" dir="141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943600" y="3657240"/>
            <a:ext cx="8380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2514600"/>
            <a:ext cx="12952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590920" y="2514600"/>
            <a:ext cx="198108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505320"/>
            <a:ext cx="182880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1981080"/>
            <a:ext cx="2286000" cy="2667240"/>
          </a:xfrm>
          <a:prstGeom prst="rect">
            <a:avLst/>
          </a:prstGeom>
          <a:noFill/>
          <a:ln w="31680">
            <a:solidFill>
              <a:srgbClr val="2db6b3"/>
            </a:solidFill>
            <a:miter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4320" y="1447920"/>
            <a:ext cx="1532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User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-buildtim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6405-B792-4A2A-8E8A-2FAC334B3A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ployment Op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6880" y="5291280"/>
            <a:ext cx="3125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 = WebSphere Business Integr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DI =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-C = WebSphere Business Integration-Conn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AN = Value Added Network (I.e. IBM EDI Service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S = IBM Business Exchange Serv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28600" y="1295280"/>
            <a:ext cx="8743680" cy="3867120"/>
            <a:chOff x="228600" y="1295280"/>
            <a:chExt cx="8743680" cy="3867120"/>
          </a:xfrm>
        </p:grpSpPr>
        <p:sp>
          <p:nvSpPr>
            <p:cNvPr id="512" name="Cloud"/>
            <p:cNvSpPr/>
            <p:nvPr/>
          </p:nvSpPr>
          <p:spPr>
            <a:xfrm>
              <a:off x="7245360" y="2412720"/>
              <a:ext cx="1672920" cy="10033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6640" y="2049480"/>
              <a:ext cx="338400" cy="22827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39600" y="2473200"/>
              <a:ext cx="338040" cy="13287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65440" y="2678040"/>
              <a:ext cx="1172880" cy="8157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03680" y="2860560"/>
              <a:ext cx="1120680" cy="4269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0880" y="28954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92960" y="28749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-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5520" y="2608200"/>
              <a:ext cx="421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2560" y="3116160"/>
              <a:ext cx="1297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94120" y="3093840"/>
              <a:ext cx="65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92000" y="282384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61800" y="279720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3800" y="2079360"/>
              <a:ext cx="131616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4360" y="2276280"/>
              <a:ext cx="1227240" cy="16207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72840" y="1779480"/>
              <a:ext cx="154476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orm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,XML, User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69560" y="2008080"/>
              <a:ext cx="98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25560" y="2082600"/>
              <a:ext cx="39024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3840" y="1753920"/>
              <a:ext cx="113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7005600" y="2163960"/>
              <a:ext cx="1095480" cy="69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txBody>
            <a:bodyPr anchor="t">
              <a:normAutofit fontScale="80000"/>
            </a:bodyPr>
            <a:p>
              <a:pPr marL="182880" indent="-1828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ading Part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84800" y="2276280"/>
              <a:ext cx="51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75000" y="1295280"/>
              <a:ext cx="92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r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8600" y="1725480"/>
              <a:ext cx="5729040" cy="3155760"/>
            </a:xfrm>
            <a:prstGeom prst="rect">
              <a:avLst/>
            </a:prstGeom>
            <a:noFill/>
            <a:ln w="19080">
              <a:solidFill>
                <a:srgbClr val="7889f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0200" y="1317600"/>
              <a:ext cx="159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Enterpri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97200" y="3562200"/>
              <a:ext cx="1120680" cy="28584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63320" y="32414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240" y="3111480"/>
              <a:ext cx="266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0880" y="3128760"/>
              <a:ext cx="1306440" cy="1486080"/>
            </a:xfrm>
            <a:custGeom>
              <a:avLst/>
              <a:gdLst/>
              <a:ahLst/>
              <a:rect l="l" t="t" r="r" b="b"/>
              <a:pathLst>
                <a:path w="823" h="936">
                  <a:moveTo>
                    <a:pt x="0" y="716"/>
                  </a:moveTo>
                  <a:cubicBezTo>
                    <a:pt x="292" y="826"/>
                    <a:pt x="585" y="936"/>
                    <a:pt x="704" y="817"/>
                  </a:cubicBezTo>
                  <a:cubicBezTo>
                    <a:pt x="823" y="698"/>
                    <a:pt x="714" y="136"/>
                    <a:pt x="716" y="0"/>
                  </a:cubicBezTo>
                </a:path>
              </a:pathLst>
            </a:custGeom>
            <a:noFill/>
            <a:ln w="19080">
              <a:solidFill>
                <a:srgbClr val="33cccc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75880" y="4157640"/>
              <a:ext cx="869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.dir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WD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9320" y="3251160"/>
              <a:ext cx="727200" cy="695160"/>
            </a:xfrm>
            <a:custGeom>
              <a:avLst/>
              <a:gdLst/>
              <a:ahLst/>
              <a:rect l="l" t="t" r="r" b="b"/>
              <a:pathLst>
                <a:path w="447" h="438">
                  <a:moveTo>
                    <a:pt x="0" y="438"/>
                  </a:moveTo>
                  <a:cubicBezTo>
                    <a:pt x="52" y="288"/>
                    <a:pt x="105" y="138"/>
                    <a:pt x="179" y="69"/>
                  </a:cubicBezTo>
                  <a:cubicBezTo>
                    <a:pt x="253" y="0"/>
                    <a:pt x="402" y="33"/>
                    <a:pt x="447" y="24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560" y="2793960"/>
              <a:ext cx="319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3360" y="3530520"/>
              <a:ext cx="3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8400" y="201744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760" y="278280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9320" y="354456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4160" y="2330280"/>
              <a:ext cx="303120" cy="19512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50880" y="3706560"/>
              <a:ext cx="266400" cy="30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5840" y="2676240"/>
              <a:ext cx="268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Cloud"/>
            <p:cNvSpPr/>
            <p:nvPr/>
          </p:nvSpPr>
          <p:spPr>
            <a:xfrm>
              <a:off x="6726240" y="3809880"/>
              <a:ext cx="1976400" cy="97776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N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ding Commun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80560" y="28699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E.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16280" y="2609640"/>
              <a:ext cx="665280" cy="209520"/>
            </a:xfrm>
            <a:custGeom>
              <a:avLst/>
              <a:gdLst/>
              <a:ahLst/>
              <a:rect l="l" t="t" r="r" b="b"/>
              <a:pathLst>
                <a:path w="419" h="132">
                  <a:moveTo>
                    <a:pt x="50" y="132"/>
                  </a:moveTo>
                  <a:cubicBezTo>
                    <a:pt x="25" y="86"/>
                    <a:pt x="0" y="40"/>
                    <a:pt x="61" y="20"/>
                  </a:cubicBezTo>
                  <a:cubicBezTo>
                    <a:pt x="122" y="0"/>
                    <a:pt x="358" y="11"/>
                    <a:pt x="419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27560" y="1860480"/>
              <a:ext cx="2844720" cy="330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13160" y="354168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2280" y="3638520"/>
              <a:ext cx="9838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Seri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92400" y="3882960"/>
              <a:ext cx="2013120" cy="447480"/>
            </a:xfrm>
            <a:custGeom>
              <a:avLst/>
              <a:gdLst/>
              <a:ahLst/>
              <a:rect l="l" t="t" r="r" b="b"/>
              <a:pathLst>
                <a:path w="1259" h="266">
                  <a:moveTo>
                    <a:pt x="173" y="0"/>
                  </a:moveTo>
                  <a:cubicBezTo>
                    <a:pt x="86" y="89"/>
                    <a:pt x="0" y="178"/>
                    <a:pt x="181" y="222"/>
                  </a:cubicBezTo>
                  <a:cubicBezTo>
                    <a:pt x="362" y="266"/>
                    <a:pt x="1067" y="258"/>
                    <a:pt x="1259" y="2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93920" y="4365360"/>
              <a:ext cx="2128680" cy="3668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-2-A Transpo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2097000" y="3175920"/>
              <a:ext cx="287280" cy="1202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222800" y="3133080"/>
              <a:ext cx="52200" cy="1227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8524800" y="3278160"/>
            <a:ext cx="257400" cy="619200"/>
          </a:xfrm>
          <a:custGeom>
            <a:avLst/>
            <a:gdLst/>
            <a:ahLst/>
            <a:rect l="l" t="t" r="r" b="b"/>
            <a:pathLst>
              <a:path w="162" h="390">
                <a:moveTo>
                  <a:pt x="142" y="0"/>
                </a:moveTo>
                <a:cubicBezTo>
                  <a:pt x="153" y="93"/>
                  <a:pt x="162" y="202"/>
                  <a:pt x="106" y="283"/>
                </a:cubicBezTo>
                <a:cubicBezTo>
                  <a:pt x="91" y="334"/>
                  <a:pt x="46" y="367"/>
                  <a:pt x="0" y="39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FC68-1C32-4F86-97BA-FD92B0AFB8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atform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/OS v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20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runti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564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567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570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582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69640" y="56386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600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601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04600" y="541008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1a04"/>
                </a:solidFill>
                <a:latin typeface="Times New Roman"/>
              </a:rPr>
              <a:t>Fail 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97800" y="4917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001000" y="4267080"/>
            <a:ext cx="824400" cy="1181520"/>
            <a:chOff x="8001000" y="4267080"/>
            <a:chExt cx="824400" cy="1181520"/>
          </a:xfrm>
        </p:grpSpPr>
        <p:sp>
          <p:nvSpPr>
            <p:cNvPr id="618" name=""/>
            <p:cNvSpPr/>
            <p:nvPr/>
          </p:nvSpPr>
          <p:spPr>
            <a:xfrm rot="19761600">
              <a:off x="8469000" y="4955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1568200">
              <a:off x="8205480" y="474804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3"/>
            <a:stretch/>
          </p:blipFill>
          <p:spPr>
            <a:xfrm>
              <a:off x="8001000" y="4267080"/>
              <a:ext cx="762120" cy="11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8273520" y="4808160"/>
              <a:ext cx="255600" cy="36072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flipV="1">
            <a:off x="7086600" y="525744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24680" y="4191120"/>
            <a:ext cx="914400" cy="14475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87C51-3B87-4A86-905F-89DBB60859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v3.2 for Multiplatforms 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(AIX and W2K)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includes…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93560" y="1333440"/>
            <a:ext cx="7188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MQ v5.3 for Windows2000 and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communications mechanism via WMQ que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B2 v7.2 Universal Database Workgroup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DB2 Enterprise if on same server as WMQ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v8.1 is also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Connect Personal Edition v7.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terface to WM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the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qrfh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or routing and formatting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lso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ed EDI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available on WDI web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ftcopy 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B4396-EE55-4C55-A103-6224891C41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6-10T20:05:00Z</dcterms:modified>
  <cp:revision>1062</cp:revision>
  <dc:subject/>
  <dc:title>IBM Software Group</dc:title>
</cp:coreProperties>
</file>